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hood and</a:t>
            </a:r>
            <a:r>
              <a:rPr b="0" lang="en-US" sz="4800" spc="-1" strike="noStrike">
                <a:solidFill>
                  <a:srgbClr val="2eb5ed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c7cb6d"/>
                </a:solidFill>
                <a:latin typeface="Times New Roman"/>
                <a:ea typeface="Times New Roman"/>
              </a:rPr>
              <a:t>A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572000" y="2967120"/>
            <a:ext cx="17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1668e"/>
                </a:solidFill>
                <a:latin typeface="Arial"/>
                <a:ea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3"/>
          <p:cNvSpPr/>
          <p:nvPr/>
        </p:nvSpPr>
        <p:spPr>
          <a:xfrm>
            <a:off x="-1440" y="16747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0205433510.jpg"/>
          <p:cNvPicPr/>
          <p:nvPr/>
        </p:nvPicPr>
        <p:blipFill>
          <a:blip r:embed="rId3"/>
          <a:stretch/>
        </p:blipFill>
        <p:spPr>
          <a:xfrm>
            <a:off x="698400" y="1984320"/>
            <a:ext cx="2911680" cy="40068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1640" y="3886200"/>
            <a:ext cx="3946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668e"/>
                </a:solidFill>
                <a:latin typeface="Arial"/>
              </a:rPr>
              <a:t>Individual and Multicultur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708880" y="2558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31668e"/>
                </a:solidFill>
                <a:latin typeface="Arial"/>
                <a:ea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Screen shot 2010-10-22 at 10.27.33 AM.jpg"/>
          <p:cNvPicPr/>
          <p:nvPr/>
        </p:nvPicPr>
        <p:blipFill>
          <a:blip r:embed="rId1"/>
          <a:stretch/>
        </p:blipFill>
        <p:spPr>
          <a:xfrm>
            <a:off x="222120" y="1936800"/>
            <a:ext cx="870264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oser Analysis of the Aging Population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sus (2006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5, in age group 65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% had high school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7% had bachelor’s or advanced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2.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pulation Age 65 and Older by Race and Hispanic Origin, 2004 and Projected 205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Interagency Forum on Aging-Related Statistics. (2006, May)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lder Americans Update 2006: Key Indicators of Well-Being. Washington, DC: U.S. Government Printing Offi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2" descr="Screen shot 2010-10-22 at 10.30.15 AM.jpg"/>
          <p:cNvPicPr/>
          <p:nvPr/>
        </p:nvPicPr>
        <p:blipFill>
          <a:blip r:embed="rId1"/>
          <a:stretch/>
        </p:blipFill>
        <p:spPr>
          <a:xfrm>
            <a:off x="896760" y="1058760"/>
            <a:ext cx="748692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eas of Differ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and Eastern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in concept of “self’ between the two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stern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dividu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ee themselves as independent, self-con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tern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llectiv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levate relationships to interconnect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eas of Differenc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ers: proud of personal strengths, self-esteem is high when take care of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ers: satisfied with sense of inter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gnitive processing and reason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eas of Difference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ers: take a position with contradictor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ers: adopt ‘middle wa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 and Age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e more important than chronological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information about social roles, thoughts,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reoty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eliefs/assumptions shared by a group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set of characteristics and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 that target group is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 and Ageism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iscriminatory behavior stemming from negative stere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eotyping based on a person’s age(young/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 and Ageism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derspea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low, highly exaggerated speech pat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grammar, vocabulary – similar to talking with children, p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 that older people have slower cognitive abilities, less he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rimental social eff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s self-esteem, motivation, self-effi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lting leading to social withdra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 and Ageism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 adults view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en 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Wayne Conserv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 grand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rew/Curmudge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l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o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ely impa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vidual and Group Dif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in cross-cultural and multicultural research slow in the U.S. at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expanded rapidly after the 1970s and 19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and diversity exists within general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 and Ageism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es with aging: changes in physical health, cognitive functioning, changing work/soci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 and Ageism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s with ag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ed emo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com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roblem solving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isfied with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ive well-b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 and Ageism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 guidelines for therapists working with older ad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 and Ageism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nd be awar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attitudes towards 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knowledge of divers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knowledge of related cli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knowledge of testing/assessing older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knowledge of best interventions/thera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in continuing education in thes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versial topic in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ays to approach gender-concept in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der de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’ sense of being male or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der ro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ctual behavior based on personal and social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der role stereoty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ale and female thoughts and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ers’ perspectives help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research design an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gender extending to include men’s issues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 exploring gender focu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gender identity / role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 of gender roles and social/polit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performance of males and females in various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 of gender sh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between males and 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between males and 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s within each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lture, Ethnicity, and race in Amer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ty exists within each ethnic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from different regions b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,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lture, Ethnicity, and race in America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ulturalism de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er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variations in individuals’ cultural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roup’s sense of art, science, technology, customs,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oss-cultu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volving different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cultu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erging of once separate or different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sychological Study of Human Dif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sychometr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sychological study of measuring individual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irst 80 years of its existence, psychology “reluctant to recognize cul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s: cross-cultural research published in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2: International Association for Cross-Cultural psychology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2796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1,000 members by 19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lture, Ethnicity, and race in America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ulturalism de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n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ne’s anc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ultural group assigned to individua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ultu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dapting to different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lture, Ethnicity, and race in America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y and differences exist among cultur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er immigrants have difficulty adjusting to lost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ducation, socio-economic status, make adjustments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lture, Ethnicity, and race in America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Cultures and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n increase in non-Christian reli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g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ulti-faceted and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beliefs and practices are a matter of personal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lture, Ethnicity, and race in America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apists’ characterization of religious beliefs is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ful: in being a comforting and coping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rimental: by encouraging delusion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lture, Ethnicity, and race in America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gio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volvement in religious tra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 encouraged or expected by one’s religious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rit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ternal state involving one’s faith, beliefs, and sense of inner harm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lture, Ethnicity, and race in America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gio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volvement in religious tra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440" indent="-32760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aspects of religiosity (Glock, 196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8520" indent="-33048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8520" indent="-33048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tual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8520" indent="-33048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8520" indent="-33048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8520" indent="-33048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organizations and their members also evolve with changing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aindividual Vari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within individuals not known to be related to stable gains/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cill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luctuations that fit a pattern of many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is a dynamic process oriented towar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knowledging Divers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s often omit individual and multicultural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”: in-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”: out-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tend to acknowledge differences in members of “in-grou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tend to assume members of “out-group” are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knowledging Diversity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to design ethnically sensitiv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cultural diversity, research should consider participants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, lifestyl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, gender,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, marital status,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of birth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sychological Study of Human Differenc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8: Association of Black Psychologists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2: Asian American Psychological Association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5: Society of Indian Psychologists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sychological Study of Human Differences 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9: National Hispanic Psychological Association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of psychology recognized cultural and individual differences in 1960s and 197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 focused on diverse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sumptions Regarding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Averag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esented wi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used in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ety with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mportant differences being missed/ign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hat is characterized by familiar, familial, and local 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not static, changes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rmal is conforming to norms, th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sumptions Regarding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Averag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Normal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norma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nconfor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tatistical term calculated from a set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840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personal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840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of average based on research of Western, Eurocentri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search represents white, heterosexual, male, middle-class, Christian life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sumptions Regarding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Averag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Normal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cont'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ies of development and aging conducted on American main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nterpreting theories,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840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of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840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of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840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’s place in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oser Analysis of the Aging Pop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sus Bureau (2007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s 55-64: 25% increase from 2000-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s 85+: 20.2% increase from 2000-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9:45:44Z</dcterms:created>
  <dc:creator>James Ramsey</dc:creator>
  <dc:description/>
  <dc:language>en-US</dc:language>
  <cp:lastModifiedBy>Adam Vaughn</cp:lastModifiedBy>
  <dcterms:modified xsi:type="dcterms:W3CDTF">2010-10-26T20:35:49Z</dcterms:modified>
  <cp:revision>13</cp:revision>
  <dc:subject/>
  <dc:title>PowerPoint Presentation</dc:title>
</cp:coreProperties>
</file>