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Life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160" y="25588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stee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elf-esteem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atisfied with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tivation for challeng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negative meaning from neutr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ggeration of negativ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self-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xiety and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stee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have high self-e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 drops for adolescents and those 8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table in middle and lat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 adjusts to changing self-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liefs about our abilities, Albert Bandura, 1989, 199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xpectations regarding success/effectiveness at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fficacy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uccess in past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ing others’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 from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s related to th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ffica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have sh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 with higher exercise-related self-efficacy more likely to exercise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 adults with high self-efficacy in areas of interpersonal matters, less fearful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sible Se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le sel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ur future 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al 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ur realistically possible best future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ed 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orst possible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elves link self-concept and motivation fo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sible Selv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gap between real and ideal 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lead to depression, is a non-motivator, psychopath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it is inspiring and motiv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selves become more realistic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due to cognitiv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and feared selves chang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Actua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key motivator in human nature (Mas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ife satisf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ense of self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elf can change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take responsibility for what we 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he ability to influence soci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Actualiza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born with internal motivation to do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self-ac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when other needs have been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Screen shot 2010-10-22 at 12.18.32 PM.jpg"/>
          <p:cNvPicPr/>
          <p:nvPr/>
        </p:nvPicPr>
        <p:blipFill>
          <a:blip r:embed="rId1"/>
          <a:stretch/>
        </p:blipFill>
        <p:spPr>
          <a:xfrm>
            <a:off x="235080" y="1362240"/>
            <a:ext cx="86896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Actualiza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move through the hierarchy at any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satisfaction maintained with quest for self-ac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: The Core of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conce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sonal subjective perception of own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of self composed of many overlapping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242568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Wisdom: Meaningful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Advanced Cog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vie-Vief (1990): theory of postformal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systemic reas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ne way of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systemic reas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ays of thinking recog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experience conflict and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3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d reas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Advanced Cogn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vie-Vief (1990): theory of postformal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ciate many perspectives and parad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4: (added by Commons and Richards, 2003)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formal orders of hierarchical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rching paradigms are compared, contrasted,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Advanced Cogn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formal complex though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in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role of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ays to respond to a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various types of thinking: scientific, emotional, 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Screen shot 2010-10-22 at 12.20.34 PM.jpg"/>
          <p:cNvPicPr/>
          <p:nvPr/>
        </p:nvPicPr>
        <p:blipFill>
          <a:blip r:embed="rId1"/>
          <a:stretch/>
        </p:blipFill>
        <p:spPr>
          <a:xfrm>
            <a:off x="225360" y="1154160"/>
            <a:ext cx="86900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14.3 (continued)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innott’s Postformal Complex Thou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Screen shot 2010-10-22 at 12.21.03 PM.jpg"/>
          <p:cNvPicPr/>
          <p:nvPr/>
        </p:nvPicPr>
        <p:blipFill>
          <a:blip r:embed="rId1"/>
          <a:stretch/>
        </p:blipFill>
        <p:spPr>
          <a:xfrm>
            <a:off x="225360" y="1606680"/>
            <a:ext cx="868212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Balancing Cognition and 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berg (1998, 2000) proposed balance theory of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isdom and external behaviors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it knowledge required for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ction oriente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uides us toward personally valu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Balancing Cognition and 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berg (1998, 2000) proposed balance theory of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omprised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levant to personally valued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cquired inform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e actions are context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Balancing Cognition and 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berg (1998, 2000) proposed balance theory of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dom involves balan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personal (self inter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(interests of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personal (the larger con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Balancing Cognition and 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berg (1998, 2000) proposed balance theory of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dom may require the us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nging oneself to adapt to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nging the environment to become compatible with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oving to a different environment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4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mon Model of Generalized Self-Conce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shing Yeung, Chui, Lau, McInerney, Rossell-Bowie, &amp; Suliman (2000). Copyright by the American Psychologic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. Reprinted with permis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Screen shot 2010-10-22 at 12.15.03 PM.jpg"/>
          <p:cNvPicPr/>
          <p:nvPr/>
        </p:nvPicPr>
        <p:blipFill>
          <a:blip r:embed="rId1"/>
          <a:stretch/>
        </p:blipFill>
        <p:spPr>
          <a:xfrm>
            <a:off x="225360" y="1728720"/>
            <a:ext cx="86900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Expertise in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ise in life theory of wisdom (Baltes et al., 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dom includes several key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insights into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al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u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ie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Screen shot 2010-10-22 at 12.25.51 PM.jpg"/>
          <p:cNvPicPr/>
          <p:nvPr/>
        </p:nvPicPr>
        <p:blipFill>
          <a:blip r:embed="rId1"/>
          <a:stretch/>
        </p:blipFill>
        <p:spPr>
          <a:xfrm>
            <a:off x="235080" y="1204920"/>
            <a:ext cx="86803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14.4 (continued)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ltes’s Criteria for Wise Respo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" descr="Screen shot 2010-10-22 at 12.25.21 PM.jpg"/>
          <p:cNvPicPr/>
          <p:nvPr/>
        </p:nvPicPr>
        <p:blipFill>
          <a:blip r:embed="rId1"/>
          <a:stretch/>
        </p:blipFill>
        <p:spPr>
          <a:xfrm>
            <a:off x="225360" y="1677960"/>
            <a:ext cx="8682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14.4 (continued)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ltes’s Criteria for Wise Respo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Screen shot 2010-10-22 at 12.24.57 PM.jpg"/>
          <p:cNvPicPr/>
          <p:nvPr/>
        </p:nvPicPr>
        <p:blipFill>
          <a:blip r:embed="rId1"/>
          <a:stretch/>
        </p:blipFill>
        <p:spPr>
          <a:xfrm>
            <a:off x="225360" y="1830240"/>
            <a:ext cx="86821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the Ultimate Stage of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dom has indescribabl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ard to arti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tegration of the highest stages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identit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sel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or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dom as the Ultimate Stage of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dom has indescribable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faith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postform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expertise in lif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ive Well-Be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well-being associated with living w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nd pleasant m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jective Well-Be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dults have high subjective well-being; high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are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more social roles/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: among younge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: among olde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Satisf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gnitive evaluation of one’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in those who underestimate their future 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 those who overestimate future 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 Satisf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life satisfaction related to qualit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Schemas and Identity Process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cept viewed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tworks used to organize information stored in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preting new information based on current sch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mmo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reating new schemas and refining establ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nd Negative Aff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well-being also involves emotional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ffect associated with extr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ffect associated with neuro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ffects stable from adolescent through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ffect increase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4.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of Personality, Emotions, and Life Satisf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Schimmack, Radhakrishnan, Oishi, Dzokoto, &amp; Ahadi (2002, p. 589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Screen shot 2010-10-22 at 12.29.33 PM.jpg"/>
          <p:cNvPicPr/>
          <p:nvPr/>
        </p:nvPicPr>
        <p:blipFill>
          <a:blip r:embed="rId1"/>
          <a:stretch/>
        </p:blipFill>
        <p:spPr>
          <a:xfrm>
            <a:off x="235080" y="1319040"/>
            <a:ext cx="86803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nd Negative Affec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mood and long-term happiness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perception of 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bility an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ability and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well-being and c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solving and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nd Negative Affec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ov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able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life; are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meet challenges to achieve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r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ering negative e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elf-blame and disappointment over actions/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tuation that could have been handled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ersome when chances for growth and change were mi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re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cited areas of regr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ing/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re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tivity also regre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 longer than wro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ts that cannot be readdressed are emotionally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60" y="232416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losing Refle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 Lessons Lear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 and Intraindividual Difference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generalize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hood is dynamic, ever-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Care of Your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good phys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 and exercise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enough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smoking, take alcohol in mo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 Lessons Learne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or Lose it: physical and cognitive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, talents, functions can be improved with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kills shar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Schemas and Identity Process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chemas: structure on which information about self is fr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ults self-schema is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and modified with roles take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dentity assimilation, identity accommo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 Lessons Learne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Other People: Healthy social support networks possible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, family, 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life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Meaningful Work or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work, hobbies, community ende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al Lessons Learne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 good Cop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adapt to changing needs and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ing Happens, Ready or Not: Plan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nd intraindividual differences better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nature of adulthood better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Direc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for future research (National Institute on Aging, 200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nderstanding of healthy aging, disease, and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nderstanding and interventions to prevent and treat dement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nderstanding of aging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policy decisions, reduce health disparities, and eliminate health inequ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dissemin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Direc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ves to keep adult pop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and mentally healthy and active for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Schemas and Identity Process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s of self-esteem and satisfaction experienc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 who emplo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a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well to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table self-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ste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ste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flection of our personal evaluation/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indicator of psycholog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information influenc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 based of four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creen shot 2010-10-22 at 12.16.48 PM.jpg"/>
          <p:cNvPicPr/>
          <p:nvPr/>
        </p:nvPicPr>
        <p:blipFill>
          <a:blip r:embed="rId1"/>
          <a:stretch/>
        </p:blipFill>
        <p:spPr>
          <a:xfrm>
            <a:off x="225360" y="820800"/>
            <a:ext cx="86900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-Estee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elf-esteem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soci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it person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04:05Z</dcterms:created>
  <dc:creator>James Ramsey</dc:creator>
  <dc:description/>
  <dc:language>en-US</dc:language>
  <cp:lastModifiedBy>Adam Vaughn</cp:lastModifiedBy>
  <dcterms:modified xsi:type="dcterms:W3CDTF">2010-11-01T16:06:02Z</dcterms:modified>
  <cp:revision>15</cp:revision>
  <dc:subject/>
  <dc:title>PowerPoint Presentation</dc:title>
</cp:coreProperties>
</file>