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Coping and Support in Lat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160" y="25588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2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nnebaker and Stone (2003) graphed the use of positive and negative emotion words across the life span, illustrating the dramatic difference in late adulthood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nnebaker &amp; Stone (2003, p. 296). Copyright by the American Psychological Association. Reprinted with permis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Screen shot 2010-10-22 at 12.08.20 PM.jpg"/>
          <p:cNvPicPr/>
          <p:nvPr/>
        </p:nvPicPr>
        <p:blipFill>
          <a:blip r:embed="rId1"/>
          <a:stretch/>
        </p:blipFill>
        <p:spPr>
          <a:xfrm>
            <a:off x="603360" y="925560"/>
            <a:ext cx="7912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ection, Optimization, and Compensation (SO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ing a result of assimilation and 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mi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djusting personal circumstances to cope with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mmod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djusting goals, lowering expectations to cope with disappointing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ection, Optimization, and Compensation (SOC)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volves surveying resources, time, energy, determining priorities, identify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ximizing performance by acquiring new information/skills, networking, seeking help from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djusting to limitations, constraints,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ping and Adaptive Techn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lder adults rely on assistive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ty and widespread use of technologies 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ability to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/affordability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Geront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tudy of ways adults and their environments function/interact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lder adults, environment changes over yea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meet curr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okes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Gerontolog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 by changing behaviors or environment using cop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nsory and cognitive functions in conflict, older adults give priority to sensor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aptive Technology and Older Ad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ng to and adopting technology redu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y and anxiety experienced by friends and family, and older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f a careg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be allowed to exercise choice in technology to be used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sense of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aptive Technology and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can be applied to personal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technologies vary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technologies useful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comf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t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chnology and Older Driv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h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person-environment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older adults mee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involved in more accidents than younger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chnology and Older Driv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route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ngest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heavy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riving at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riving in bad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err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duction in physical and cognitive abilities, many give up driving privi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ping Strategies and 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accompanying old age require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ism, lifestyle/housing transitions, disease,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s in cognitive and physical abilities of older adult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ture, adaptive cop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uter Literacy and Older Ad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very late adulthood use of the following decr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ebsites not elderly 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uter Literacy and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ies do not find generational differences in use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raining, older adults use computer technology; enjo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uter Literacy and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net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health-relat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ng income from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pping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ing support from online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enhances quality of life for older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9360" y="241308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Coping by Accepting Social Supp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Relationship and Supp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upport: companionship, friendships, acquaintance-type relationships, and negative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upport network: people who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Relationship and Suppor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ance provided: instrumental or physical help, provide information, emotional support/com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 or partner: primary source of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r children, siblings, friends also 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r adults close with friends and siblings of simila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Relationship and Suppor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networks reduce as adults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in size as adults have increased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5 members in inner network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reduce with lower 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Relationship and Suppor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, high-quality relationsh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general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 c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cial support associated with sense of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port received associated with negative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loser Look at Caregiv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giver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i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eelings from caregi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d one is being ca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v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loser Look at Caregiv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quart and Sorensen, (2003): characteristics of caregiv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rly 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 or adult child of care recip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ver 40 hours of care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ndevelopmental Models of Cop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focused coping strategies: search for solutions/resolutions to str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-focused strategies: source of stress cannot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focused coping decreas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loser Look at Caregiv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receiving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in 70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ale or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health of caregiv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person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sense of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elong to ethnic min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er 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loser Look at Caregiv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groups can alleviate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booklet Caring for the Care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: long-distance care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sity, Coping, and 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haviors and activities related to a religiou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irit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ne’s sense of inner harmony, faith, and personal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us Views of 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modern religions celebrated adulthood,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distinct life periods in Hindu litera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/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un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us Views of Ag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ucianism emphasizes five relationsh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-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sibling-younger si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friend-young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sband-w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r-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us Views of Ag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tual celebrations in middle age and older adulthood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tuals are psychologicall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tuals and celebrations can benefit older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Religious Develo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wler’s theor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th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ge 1: intuitive-protective fa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d in child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enters into dramatic religious feelings and emotions through 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2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thic-literal st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and middle child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 viewed in a concret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 may operate at this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Religious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3: synthetic-conventional fa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ce to young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 is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art of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ciation of personal relationships and religious heri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Religious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4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ividuative-reflective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lat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evaluation of beliefs, faiths of self and grou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5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junctive fa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to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meaning and sense in traditions/ri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Religious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6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versaliz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d by those who have dedicated life to highest religious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elopmental Reg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s and losses likely at each stag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al re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intaining personal control over gains and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aining functional control over immediate surro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d by changing physical and social 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Religious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s of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close to Kohlberg’s theory of moral and cognitiv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nd or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provisions for skipping/regressing step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oo opt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ping and Religio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sity associat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mental and physic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attendance increases social suppor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ies provide assistance of variou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r adults like to recipr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ping and Religio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 attendance reduces with oldest-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elopmental Regula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rimary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in young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s in middl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at end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elopmental Regula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cious adjustment of sense of self, identity, motivation, to cope with extern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roughou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oemotional Selectivity Theory (SST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: using social relationships to cope with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remental the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cus on the losses of friends/rel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ity the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elect/choose friends using 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o maintain social relationships decreases with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oemotional Selectivity Theory (SST)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find other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: shift with age seen in emotional regulation and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oemotional Selectivity Theory (SST)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otional re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naging experience of positive and negative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positive emotion words increas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healthy adaptation to change, successful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sense of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7:39:20Z</dcterms:created>
  <dc:creator>James Ramsey</dc:creator>
  <dc:description/>
  <dc:language>en-US</dc:language>
  <cp:lastModifiedBy>Adam Vaughn</cp:lastModifiedBy>
  <dcterms:modified xsi:type="dcterms:W3CDTF">2010-10-28T17:50:39Z</dcterms:modified>
  <cp:revision>12</cp:revision>
  <dc:subject/>
  <dc:title>PowerPoint Presentation</dc:title>
</cp:coreProperties>
</file>