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Typical Physical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160" y="25588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Vis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illary mi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verage diameter of pupil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ooping eyel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r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louded ey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auc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igh pressure in eye ball: damages optic n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0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sic Eye Anatom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ational Eye Institute, National Institutes of Health. (2006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Screen shot 2010-10-22 at 11.49.15 AM.jpg"/>
          <p:cNvPicPr/>
          <p:nvPr/>
        </p:nvPicPr>
        <p:blipFill>
          <a:blip r:embed="rId1"/>
          <a:stretch/>
        </p:blipFill>
        <p:spPr>
          <a:xfrm>
            <a:off x="331920" y="841320"/>
            <a:ext cx="846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Vis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-related maculopathy/macular degen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eriorating re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mpairment leads to: inability to cope with daily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o use large-print and audio recor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Hea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bycu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earing loss part of normal ag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hair cells in inner 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auditory canal, ear d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hair loss in coch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neurons in auditory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10.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sic Anatomy of the E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ational Institute on Deafness and Other Communication Disorders (2008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Screen shot 2010-10-22 at 11.51.37 AM.jpg"/>
          <p:cNvPicPr/>
          <p:nvPr/>
        </p:nvPicPr>
        <p:blipFill>
          <a:blip r:embed="rId1"/>
          <a:stretch/>
        </p:blipFill>
        <p:spPr>
          <a:xfrm>
            <a:off x="216000" y="987480"/>
            <a:ext cx="86994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Hear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bycusis may worsen with health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 impairment prevail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% adults over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adults over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ing decline faster in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ni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inging in 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Hear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o use hearing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ensory deficits are not intellectual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Balance and Mov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re, muscle strength, reaction time chang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 common in adults leading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be indepe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Balance and Mo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rio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bility to sense body segments in relation to signals from joints,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ecreases with age, leading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er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o exercise regularly and lead active life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Sensory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umber to tastebuds decreas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decline in 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v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es from smell declines less and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taste may lead to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Aging Across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ging: normal, nonpathalogical changes that occur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aging: aging linked to disease, detrimental lifestyle, environment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tiary aging: loss of physical and cognitive functioning before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Sensory Chan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to high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er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reduc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Body Syst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weaken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breathing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chang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ing Cardiovascular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enl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pacemaker cells causes slower beat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in ability to extract oxygen from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ies become stiff: more force required to move blood through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ing Digestive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breakdown and absorption of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production of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s less efficient at filtering waste from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bladder control in 30% of 65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ing B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por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tion in bone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r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cess of removing old bone tissue faster th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aying down new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y control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loss faster for post-menopausal women due to decline in 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9360" y="242568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Changes in Sexuality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sues in Sexuality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sk of Heterosex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exuality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sex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ttitude that heterosexuals have healthiest or most appropriate sexual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udies conducted on heterosex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sk of false Data in Sexuality Re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articipants may withhold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sues in Sexuality Research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y give socially acceptabl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egarding sexual thoughts and behavior to be viewed with skep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sk of Misunderstanding Research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data is reported may lead to inaccurate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xuality in Young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ga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ving one sexual partner for entir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 monoga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ving one sexual partner during a particular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5% married men, 15% married women engage in extramarital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xuality in Middle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sexual activity in middle adult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han in you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mpletely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al changes as menop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9360" y="248904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Changes in Appear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Female Sexual Heal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aging Menop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op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ssation of menstruation in late 40s or early 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Female Sexual Health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menop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f menop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last 2-8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enstrual irregularities, hot flashes, sleeping problems, and oth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 Replacement Therapy (HRT) risky; Inst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sm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Female Sexual Health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menop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p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enstrual irregularities, hot flashes, sleeping problems, and oth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healthy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aff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healthy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xcessive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stress redu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Female Sexual Health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men, Sexuality, and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sponses to perimenopause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till maintain an active sex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Male Sexual Heal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hormone levels between ages 35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ropa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ing male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xperience problems with sleeping, memory, concentration, depression, anxiety, et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ign prostatic hyperpla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nlarged prostate gland causing discom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xuality in Late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ntinue to be sexually active into 70s and 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llnesses can decrease sexu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Body Sha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m (1.57”) height loss between young adulthood and young-old age of 7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cm (1.38”) loss between young-old and old-old age of mid -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 less expansion of disks between vertebr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decrease in muscle mass between ages 30-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Body Shap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body fat due to slowing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im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view bodies as whole entities; women view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functioning important to men; appearance important to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has neutral/positive impact on men; negative impact on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Sk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hanges with 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wrinkles, dryness, age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s thinner, less elastic, frag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a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mage caused by exposure to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Ha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ing of hair genetically program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gradual reduction in pigmen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ing rate varies: 30s to 6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opec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ir loss from scalp (bald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in men tha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 genetic, poor nutrition, surgery, diseases,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Sensory Syst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eroceptive s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ision, hearing,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thresholds increase with age: stronger signals required for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Vi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ability to produce tears with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a: increased curvature results in scattering of intraocular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s: less flexible, cloudy – leading to poor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by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ability of lens to accommo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1:36:47Z</dcterms:created>
  <dc:creator>James Ramsey</dc:creator>
  <dc:description/>
  <dc:language>en-US</dc:language>
  <cp:lastModifiedBy>Adam Vaughn</cp:lastModifiedBy>
  <dcterms:modified xsi:type="dcterms:W3CDTF">2010-11-01T16:01:30Z</dcterms:modified>
  <cp:revision>11</cp:revision>
  <dc:subject/>
  <dc:title>PowerPoint Presentation</dc:title>
</cp:coreProperties>
</file>