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hood and</a:t>
            </a:r>
            <a:r>
              <a:rPr b="0" lang="en-US" sz="4800" spc="-1" strike="noStrike">
                <a:solidFill>
                  <a:srgbClr val="2eb5ed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7cb6d"/>
                </a:solidFill>
                <a:latin typeface="Times New Roman"/>
                <a:ea typeface="Times New Roman"/>
              </a:rPr>
              <a:t>A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572000" y="2967120"/>
            <a:ext cx="17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1668e"/>
                </a:solidFill>
                <a:latin typeface="Arial"/>
                <a:ea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3"/>
          <p:cNvSpPr/>
          <p:nvPr/>
        </p:nvSpPr>
        <p:spPr>
          <a:xfrm>
            <a:off x="-1440" y="16747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0205433510.jpg"/>
          <p:cNvPicPr/>
          <p:nvPr/>
        </p:nvPicPr>
        <p:blipFill>
          <a:blip r:embed="rId3"/>
          <a:stretch/>
        </p:blipFill>
        <p:spPr>
          <a:xfrm>
            <a:off x="698400" y="1984320"/>
            <a:ext cx="2911680" cy="4006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1640" y="3886200"/>
            <a:ext cx="3946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668e"/>
                </a:solidFill>
                <a:latin typeface="Arial"/>
              </a:rPr>
              <a:t>Memory and Basic 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708880" y="2558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31668e"/>
                </a:solidFill>
                <a:latin typeface="Arial"/>
                <a:ea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8.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llustration of Parallel Distributed Processing Mode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Screen shot 2010-10-22 at 11.28.02 AM.jpg"/>
          <p:cNvPicPr/>
          <p:nvPr/>
        </p:nvPicPr>
        <p:blipFill>
          <a:blip r:embed="rId1"/>
          <a:stretch/>
        </p:blipFill>
        <p:spPr>
          <a:xfrm>
            <a:off x="237960" y="1103400"/>
            <a:ext cx="868068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9360" y="2336760"/>
            <a:ext cx="9153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Memory and the Aging Br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rain Imag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technologies: noninvasive,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ized tomography(C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used to study variations in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 atrop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crease in amount of brain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60 years of ag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-32400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 weight decreases by 2-3 gram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-32400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 occupies 95% of skul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-32400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rain Imag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90s, brain occupies 80% of skull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etic Resonance Imaging (MRI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different types of soft tissues using radio and 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 and white matter decrease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lobes/regions of cerebr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rain Imag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nt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thinking, reasoning, planning, memory, problem-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ie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ensory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cipit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visual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o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ing 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8.2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our Lobes Found in Each Hemisphe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ational Institute of Neurological Disorders and Stroke (2007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" descr="Screen shot 2010-10-22 at 11.29.41 AM.jpg"/>
          <p:cNvPicPr/>
          <p:nvPr/>
        </p:nvPicPr>
        <p:blipFill>
          <a:blip r:embed="rId1"/>
          <a:stretch/>
        </p:blipFill>
        <p:spPr>
          <a:xfrm>
            <a:off x="868320" y="865080"/>
            <a:ext cx="737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rain Imag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ron Emission Tomography (PE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formation on function of brain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blood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 MRI (fMR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 magnetic quality of wate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processing activity in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rain Imag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ng affects frontal and temporal lobes m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ppocamp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art of the inner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as “librarian” for thought and mem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ppocampal functioning decreases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 of this area leads to Alzheimer’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vidual Differences in Brain Activity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brain is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in aging and brain functioning varies for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der differences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ndividual and intraindividual differences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vidual Differences in Brain Activity 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fin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ame neurological functions achieved by different individuals’ brains via different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tenti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rain cells may develop to take on new functions/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sti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rain’s potential to reorganize and structure itself due to environmental stimulation/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mory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odels of memory popular among cognitive and developmental psycholog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Distributed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9360" y="2451240"/>
            <a:ext cx="9153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Memory Performance Across Adultho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t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relationship between aging and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on involves many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ve atten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hoosing to focus on a stimulus out of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two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one stimulus/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noring other irrelevant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ten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gil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ustained attention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earching for a 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d atten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ttending to more than one stimulus simultane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on declines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 time to stimuli increases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ing Memory and Processing Spe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decline in primary memory (STM)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more decline in working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frontal and temporal regions possibly the cause for de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 control functions and processing speed slow down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ing Memory and Processing Speed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in capacity of memory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coordinate cognitive tasks and processes also decline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pisodic Mem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up of personal experiences or life epis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by time and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sodic memory declines stead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pisodic Mem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biographical memory bum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of positive memories (than negative) of when in 2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by those in 30s or 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er adults recall personal thought about such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r adults recall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pisodic Mem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hbulb Memories: memories linked to unexpected, shocking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with higher education perform better on memory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have better episodic memories than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deterioration varies among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8.3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utobiographical Bum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2" descr="Screen shot 2010-10-22 at 11.32.21 AM.jpg"/>
          <p:cNvPicPr/>
          <p:nvPr/>
        </p:nvPicPr>
        <p:blipFill>
          <a:blip r:embed="rId1"/>
          <a:stretch/>
        </p:blipFill>
        <p:spPr>
          <a:xfrm>
            <a:off x="1008000" y="838080"/>
            <a:ext cx="7143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nepisodic Mem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pisodic/Procedural memories involve: motor, perceptual, 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mains strong throughou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develop new procedural memories strong throughout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and organization of concepts and items remains strong when done regu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Process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Atkinson and Shiff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by Baddeley and H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nepisodic Mem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ine in 9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 adults also have difficulty in remembering new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8.4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hanges in Working Memory, Short-Term Memory, Long-Term Memory, Speed, and Verbal Knowledge from the 20s to the 80s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ark, Lautenschlager, Hedden, Davidson, Smith, &amp; Smith (2002, p. 305). Copyright by the American Psychological Association. Reprinted with permiss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" descr="Screen shot 2010-10-22 at 11.34.25 AM.jpg"/>
          <p:cNvPicPr/>
          <p:nvPr/>
        </p:nvPicPr>
        <p:blipFill>
          <a:blip r:embed="rId1"/>
          <a:stretch/>
        </p:blipFill>
        <p:spPr>
          <a:xfrm>
            <a:off x="1582560" y="1084320"/>
            <a:ext cx="5973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mory Errors, Improvement Strategies, and Trai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deficits common to all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cits occur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ing precise verb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improving strateg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hysic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y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mon Memory Err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entminded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ailing to remember routine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ability to recall information we are confident we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 vulnerabl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se mem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ation of information that, in reality, never oc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ed by personal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vidual Memory Improvement Strateg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ternal and external methods to improv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strateg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emon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ing artificial bonds /connections among items to increase 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rony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king a word out of first letters of items to be rememb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ro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king sentences using words that start with same letters as to-be-remembered words in same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vidual Memory Improvement Strategi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strateg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torial mnem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inking information to images/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g-word mnem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mbination of acrostics, rhymes,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-of-lo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ssociating to-be-remembered items with familiar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vidual Memory Improvement Strategi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strategi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/digital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a set rou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environment itself as an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mory Trai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ts val="3637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improves with attention, effort,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ts val="3637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ying fo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ts val="3637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ing training programs using mnemonic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ts val="3637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attitude enhances cognitive processes, and hence,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ts val="3637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self-efficacy may also control mem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ts val="36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Process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proposes memory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d/brought in via sensory physiological structures; transferred from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 register hold information for 1-4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 information translated into brain signals: 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Process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proposes memory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d/brought in via sensory physiological structures; transferred from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d information moves to short-term memory(S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ry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 7 + - 2 items for 6-12 seco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memory: S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Process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o permanent/long-term memory (LTM), from where 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TM: set of interacting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l memories: routin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 memories: facts, concepts, knowledge-base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sodic memories: personal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Picture 5.png"/>
          <p:cNvPicPr/>
          <p:nvPr/>
        </p:nvPicPr>
        <p:blipFill>
          <a:blip r:embed="rId1"/>
          <a:stretch/>
        </p:blipFill>
        <p:spPr>
          <a:xfrm>
            <a:off x="457200" y="606600"/>
            <a:ext cx="822960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allel Distributed Process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states mental representations of specific units of information are st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are built between these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 form memory/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energy activates units and connections to create a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allel Distributed Process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/manipulation of procedural, semantic, and episodic memories occus simultane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7:47:17Z</dcterms:created>
  <dc:creator>James Ramsey</dc:creator>
  <dc:description/>
  <dc:language>en-US</dc:language>
  <cp:lastModifiedBy>Adam Vaughn</cp:lastModifiedBy>
  <dcterms:modified xsi:type="dcterms:W3CDTF">2010-10-27T18:17:08Z</dcterms:modified>
  <cp:revision>17</cp:revision>
  <dc:subject/>
  <dc:title>PowerPoint Presentation</dc:title>
</cp:coreProperties>
</file>