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Disease,Illness,and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160" y="25588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1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10 Causes of Death in 20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Centers for Disease Control and Prevention. (2010, June 28). Faststats: Deaths and mortality. Atlanta, GA: Author. Retrieved July 14, 2010 from http://www.cdc.gov/nchs/fastats/deaths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Screen shot 2010-10-22 at 11.56.01 AM.jpg"/>
          <p:cNvPicPr/>
          <p:nvPr/>
        </p:nvPicPr>
        <p:blipFill>
          <a:blip r:embed="rId1"/>
          <a:stretch/>
        </p:blipFill>
        <p:spPr>
          <a:xfrm>
            <a:off x="244440" y="1805040"/>
            <a:ext cx="8683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Illness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s of dea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 25-44: accidents, cancer, heart disease, hom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 over 65: heart disease, cancer, stroke, respiratory, Alzheim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ovascular Dise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disease or heart disease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rdening of arte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heroscler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laque buildup, leading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hythmi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irregular heartb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hest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ocardial infar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heart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1.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theroscleros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Heart Lung and Blood Institute, U.S. Dept. of Health and Human Services and NIH (2009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Screen shot 2010-10-22 at 12.02.02 PM.jpg"/>
          <p:cNvPicPr/>
          <p:nvPr/>
        </p:nvPicPr>
        <p:blipFill>
          <a:blip r:embed="rId1"/>
          <a:stretch/>
        </p:blipFill>
        <p:spPr>
          <a:xfrm>
            <a:off x="1901880" y="84780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ovascular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disease also related to personality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s more common in men in 50s and 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omen in 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likely to die within a year of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rate for women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c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c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normal cel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in cells multiply faster, or liv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tumors and extra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ig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ncanc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igna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au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factors (carcin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cer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in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healthy life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gular check-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rebrovascular Dise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that cause problems with blood flow to and through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mmediate destruction of brain cells an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sation of oxygen and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morrhagic stro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eaking and bleeding of blood vessel in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eury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lood collects in and expands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rebrovascular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s cau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mation of a c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bo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vement of clot within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rrowing of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rebrovascular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treatment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of stro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the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s: third leading cause of death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serious long-term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tinctions and Whole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successful aging considers biological, psychological, social adjustments associated with chronic ill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dults living with a chronic condition due to improved medical technologies and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high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buildup in the blood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detection of disease can stop its further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ing 5-7% of body weight reduces risk by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et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idespread among some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1 diabetes: insulin-producing cells in pancreas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ational diabetes: develops in late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2 diabetes: body has resistance to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1.3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valence of Diabetes by 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Diabetes Information Clearinghouse. (2008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Screen shot 2010-10-22 at 12.04.05 PM.jpg"/>
          <p:cNvPicPr/>
          <p:nvPr/>
        </p:nvPicPr>
        <p:blipFill>
          <a:blip r:embed="rId1"/>
          <a:stretch/>
        </p:blipFill>
        <p:spPr>
          <a:xfrm>
            <a:off x="1182600" y="836640"/>
            <a:ext cx="6777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et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 Diab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, frequent urination, increased thirst and hunger, weight loss, numbness, slow healing of wound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zheimer’s Dise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men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disease when brain tissue and proteins get entan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zheimer’s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ed connections between nerv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levels of neurotransmitt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f nerv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begin between ages 40 and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zheimer’s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of Alzheimer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linical Alzheimer’s disease: starts 10-20 years before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begins to shrink (atro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cognitive impairment misinterpreted as signs of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Alzheimer’s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oss, confusion, poor judgment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zheimer’s Disea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Alzheimer’s disease: affects brain areas that control sensory processing and conscious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lzheimer’s disease; loss of awareness of self, others, 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death from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9360" y="24382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Psychological Disord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ssifications and Individual Dif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edition Diagnostic and Statistical Manual of Mental Disorders (DSM - IV) defines criteria for mental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rmining Health and Ill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adults between 55-64 in good/excellent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rter of 65+ rated as having good/excellent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by severity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ceptibility to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ssifications and Individual Differenc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five sections, Axis I – V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 I: clinical syndr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 II: Developmental and personality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 III: physical and mental conditions that may influence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 IV: Sources of psychologic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 V: overall/global sense of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ssifications and Individual Differenc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Psychological Association (APA): urges therapists to stay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es of mental disorders often overlook individual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xiety Disord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vere, intense, disruptiv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 disorder: accompanied with panic attacks, worry, hot flashes, chill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of anxiety unclear to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 panic disorder, social anxiety, generalized anxiety, PTSD, obsessive-compul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xiety Disord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genetic, brain chemistry, personality, life events, effect of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able with cognitive-behavioral therapy, stress management, relaxation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od Disord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thmic disorder (chronic, mild depr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polar disorder (cycling between extreme depression and man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genetic and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; medication and psych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convulsive therapy (ECT) may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od Disord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depressive disorder more common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lder adults it may be overlooked: assumed to be a physical illness/effects of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 and Categ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hysiological characteristics, symptoms, changes diagnosed and given a diseas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eneral physical, psychological, emotional, social discomfort caused by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sychopathology or mental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 and Categor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could have psychological components/vice 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s of healthcare professionals inter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Differences and Diver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differences exist in seeking, receiving medical adv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more likely to self-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optimists likely to live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Differences and Diver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ping skills for those with be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Differences and Diver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rated healthier than Hisp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Americans diagnosed at later stages in physic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less aggressiv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igher rates of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Illn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cancer and heart diseases were responsible for nearly half deaths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7:26:39Z</dcterms:created>
  <dc:creator>James Ramsey</dc:creator>
  <dc:description/>
  <dc:language>en-US</dc:language>
  <cp:lastModifiedBy>Adam Vaughn</cp:lastModifiedBy>
  <dcterms:modified xsi:type="dcterms:W3CDTF">2010-10-28T17:39:09Z</dcterms:modified>
  <cp:revision>8</cp:revision>
  <dc:subject/>
  <dc:title>PowerPoint Presentation</dc:title>
</cp:coreProperties>
</file>