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4532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7560" y="0"/>
            <a:ext cx="91537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04532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60" y="0"/>
            <a:ext cx="91537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99"/>
              </a:spcBef>
              <a:buClr>
                <a:srgbClr val="31668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344520">
              <a:spcBef>
                <a:spcPts val="799"/>
              </a:spcBef>
              <a:buClr>
                <a:srgbClr val="31668e"/>
              </a:buClr>
              <a:buFont typeface="Lucida Gran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93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68640" indent="-339840">
              <a:spcBef>
                <a:spcPts val="799"/>
              </a:spcBef>
              <a:buClr>
                <a:srgbClr val="31668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686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686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9" descr="pearson_logo"/>
          <p:cNvPicPr/>
          <p:nvPr/>
        </p:nvPicPr>
        <p:blipFill>
          <a:blip r:embed="rId2"/>
          <a:stretch/>
        </p:blipFill>
        <p:spPr>
          <a:xfrm>
            <a:off x="76320" y="6513480"/>
            <a:ext cx="799920" cy="304920"/>
          </a:xfrm>
          <a:prstGeom prst="rect">
            <a:avLst/>
          </a:prstGeom>
          <a:ln w="0">
            <a:noFill/>
          </a:ln>
        </p:spPr>
      </p:pic>
      <p:sp>
        <p:nvSpPr>
          <p:cNvPr id="3" name="Line 53"/>
          <p:cNvSpPr/>
          <p:nvPr/>
        </p:nvSpPr>
        <p:spPr>
          <a:xfrm>
            <a:off x="3240" y="6450120"/>
            <a:ext cx="9140760" cy="0"/>
          </a:xfrm>
          <a:prstGeom prst="line">
            <a:avLst/>
          </a:prstGeom>
          <a:ln w="28440">
            <a:solidFill>
              <a:srgbClr val="3166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2"/>
          <p:cNvSpPr/>
          <p:nvPr/>
        </p:nvSpPr>
        <p:spPr>
          <a:xfrm>
            <a:off x="4952880" y="6462720"/>
            <a:ext cx="41119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2011 by Pearson Education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7"/>
          <p:cNvSpPr/>
          <p:nvPr/>
        </p:nvSpPr>
        <p:spPr>
          <a:xfrm>
            <a:off x="844560" y="6462720"/>
            <a:ext cx="448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ulthood and Ag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rion G. Mas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53"/>
          <p:cNvSpPr/>
          <p:nvPr/>
        </p:nvSpPr>
        <p:spPr>
          <a:xfrm>
            <a:off x="-1440" y="1393920"/>
            <a:ext cx="9151920" cy="0"/>
          </a:xfrm>
          <a:prstGeom prst="line">
            <a:avLst/>
          </a:prstGeom>
          <a:ln w="28440">
            <a:solidFill>
              <a:srgbClr val="c7cb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9" descr="pearson_logo"/>
          <p:cNvPicPr/>
          <p:nvPr/>
        </p:nvPicPr>
        <p:blipFill>
          <a:blip r:embed="rId2"/>
          <a:stretch/>
        </p:blipFill>
        <p:spPr>
          <a:xfrm>
            <a:off x="76320" y="6513480"/>
            <a:ext cx="799920" cy="304920"/>
          </a:xfrm>
          <a:prstGeom prst="rect">
            <a:avLst/>
          </a:prstGeom>
          <a:ln w="0">
            <a:noFill/>
          </a:ln>
        </p:spPr>
      </p:pic>
      <p:sp>
        <p:nvSpPr>
          <p:cNvPr id="44" name="Line 53"/>
          <p:cNvSpPr/>
          <p:nvPr/>
        </p:nvSpPr>
        <p:spPr>
          <a:xfrm>
            <a:off x="3240" y="6450120"/>
            <a:ext cx="9140760" cy="0"/>
          </a:xfrm>
          <a:prstGeom prst="line">
            <a:avLst/>
          </a:prstGeom>
          <a:ln w="28440">
            <a:solidFill>
              <a:srgbClr val="3166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4952880" y="6462720"/>
            <a:ext cx="41119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2011 by Pearson Education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7"/>
          <p:cNvSpPr/>
          <p:nvPr/>
        </p:nvSpPr>
        <p:spPr>
          <a:xfrm>
            <a:off x="844560" y="6462720"/>
            <a:ext cx="448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ulthood and Ag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rion G. Mas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53"/>
          <p:cNvSpPr/>
          <p:nvPr/>
        </p:nvSpPr>
        <p:spPr>
          <a:xfrm>
            <a:off x="-1440" y="1393920"/>
            <a:ext cx="9151920" cy="0"/>
          </a:xfrm>
          <a:prstGeom prst="line">
            <a:avLst/>
          </a:prstGeom>
          <a:ln w="28440">
            <a:solidFill>
              <a:srgbClr val="c7cb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3240" y="0"/>
            <a:ext cx="9140760" cy="1676520"/>
          </a:xfrm>
          <a:prstGeom prst="rect">
            <a:avLst/>
          </a:prstGeom>
          <a:solidFill>
            <a:srgbClr val="1855a5"/>
          </a:solidFill>
          <a:ln w="9360">
            <a:solidFill>
              <a:srgbClr val="c1c8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ulthood and</a:t>
            </a:r>
            <a:r>
              <a:rPr b="0" lang="en-US" sz="4800" spc="-1" strike="noStrike">
                <a:solidFill>
                  <a:srgbClr val="2eb5ed"/>
                </a:solidFill>
                <a:latin typeface="Times New Roman"/>
                <a:ea typeface="Times New Roman"/>
              </a:rPr>
              <a:t> </a:t>
            </a:r>
            <a:r>
              <a:rPr b="0" lang="en-US" sz="4800" spc="-1" strike="noStrike">
                <a:solidFill>
                  <a:srgbClr val="c7cb6d"/>
                </a:solidFill>
                <a:latin typeface="Times New Roman"/>
                <a:ea typeface="Times New Roman"/>
              </a:rPr>
              <a:t>Ag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4"/>
          <p:cNvSpPr/>
          <p:nvPr/>
        </p:nvSpPr>
        <p:spPr>
          <a:xfrm>
            <a:off x="4572000" y="2967120"/>
            <a:ext cx="17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1668e"/>
                </a:solidFill>
                <a:latin typeface="Arial"/>
                <a:ea typeface="Arial"/>
              </a:rPr>
              <a:t>Ch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53"/>
          <p:cNvSpPr/>
          <p:nvPr/>
        </p:nvSpPr>
        <p:spPr>
          <a:xfrm>
            <a:off x="-1440" y="1674720"/>
            <a:ext cx="9151920" cy="0"/>
          </a:xfrm>
          <a:prstGeom prst="line">
            <a:avLst/>
          </a:prstGeom>
          <a:ln w="28440">
            <a:solidFill>
              <a:srgbClr val="c7cb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4" descr="0205433510.jpg"/>
          <p:cNvPicPr/>
          <p:nvPr/>
        </p:nvPicPr>
        <p:blipFill>
          <a:blip r:embed="rId3"/>
          <a:stretch/>
        </p:blipFill>
        <p:spPr>
          <a:xfrm>
            <a:off x="698400" y="1984320"/>
            <a:ext cx="2911680" cy="4006800"/>
          </a:xfrm>
          <a:prstGeom prst="rect">
            <a:avLst/>
          </a:prstGeom>
          <a:ln w="0">
            <a:noFill/>
          </a:ln>
          <a:effectLst>
            <a:outerShdw dist="63639" dir="27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99"/>
              </a:spcBef>
              <a:buClr>
                <a:srgbClr val="31668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344520">
              <a:spcBef>
                <a:spcPts val="799"/>
              </a:spcBef>
              <a:buClr>
                <a:srgbClr val="31668e"/>
              </a:buClr>
              <a:buFont typeface="Lucida Gran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93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68640" indent="-339840">
              <a:spcBef>
                <a:spcPts val="799"/>
              </a:spcBef>
              <a:buClr>
                <a:srgbClr val="31668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686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686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1640" y="3886200"/>
            <a:ext cx="39466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1668e"/>
                </a:solidFill>
                <a:latin typeface="Arial"/>
              </a:rPr>
              <a:t>Friendships and Love 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5708880" y="2558880"/>
            <a:ext cx="64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600" spc="-1" strike="noStrike">
                <a:solidFill>
                  <a:srgbClr val="31668e"/>
                </a:solidFill>
                <a:latin typeface="Arial"/>
                <a:ea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3"/>
          <p:cNvSpPr/>
          <p:nvPr/>
        </p:nvSpPr>
        <p:spPr>
          <a:xfrm>
            <a:off x="0" y="0"/>
            <a:ext cx="9144000" cy="6419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9360" y="2387520"/>
            <a:ext cx="915336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1855a5"/>
                </a:solidFill>
                <a:latin typeface="Times New Roman"/>
              </a:rPr>
              <a:t>Building Love Relationship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iangular Theory of Lov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rnberg’s (1997) triangular theory of love emphasiz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imac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emotional part of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s feelings of warmth, comfort, closeness, understanding towards other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st, open lines of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s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motivational/driving part of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ing for and involvement in sexual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iangular Theory of Love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sion/Commit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cognitive aspect of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ve relationships evolve over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0" y="0"/>
            <a:ext cx="9144000" cy="6419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" descr="Screen shot 2010-10-22 at 11.08.33 AM.jpg"/>
          <p:cNvPicPr/>
          <p:nvPr/>
        </p:nvPicPr>
        <p:blipFill>
          <a:blip r:embed="rId1"/>
          <a:stretch/>
        </p:blipFill>
        <p:spPr>
          <a:xfrm>
            <a:off x="458640" y="58680"/>
            <a:ext cx="8159760" cy="635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iangular Theory of Love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parts can represent three points on a trian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ve moves around these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ttachment Styl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s effects of earliest love-based relationships on current love relation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0" y="0"/>
            <a:ext cx="9144000" cy="6419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Screen shot 2010-10-22 at 11.11.02 AM.jpg"/>
          <p:cNvPicPr/>
          <p:nvPr/>
        </p:nvPicPr>
        <p:blipFill>
          <a:blip r:embed="rId1"/>
          <a:stretch/>
        </p:blipFill>
        <p:spPr>
          <a:xfrm>
            <a:off x="209520" y="1930320"/>
            <a:ext cx="8713800" cy="29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ttachment Styl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ure attachment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ble in maintaining 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w self and lover with respect, care, aff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ible, comfortable, dependable with intim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ttachment Styles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xious-ambivalent attachment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ence competing feel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 closeness, intimacy, approval in relationships, but view self as unworthy of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lemma- anxious with fear of re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ttachment Styles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44160" indent="-3441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verage attachment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0200" indent="-3376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-dismissing attachment sty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46320" indent="-340920">
              <a:spcBef>
                <a:spcPts val="601"/>
              </a:spcBef>
              <a:buClr>
                <a:srgbClr val="31668e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eting feel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46320" indent="-340920">
              <a:spcBef>
                <a:spcPts val="601"/>
              </a:spcBef>
              <a:buClr>
                <a:srgbClr val="31668e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picious of lo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46320" indent="-340920">
              <a:spcBef>
                <a:spcPts val="601"/>
              </a:spcBef>
              <a:buClr>
                <a:srgbClr val="31668e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 personal independence and sense of wo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0200" indent="-3376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-fearful attachment sty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46320" indent="-340920">
              <a:spcBef>
                <a:spcPts val="601"/>
              </a:spcBef>
              <a:buClr>
                <a:srgbClr val="31668e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picious and anxi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46320" indent="-340920">
              <a:spcBef>
                <a:spcPts val="601"/>
              </a:spcBef>
              <a:buClr>
                <a:srgbClr val="31668e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any type of intimate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46320" indent="-340920">
              <a:spcBef>
                <a:spcPts val="601"/>
              </a:spcBef>
              <a:buClr>
                <a:srgbClr val="31668e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threat of rejection and aband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46320" indent="-340920">
              <a:spcBef>
                <a:spcPts val="601"/>
              </a:spcBef>
              <a:buClr>
                <a:srgbClr val="31668e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ew relationships as trouble than wort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46320" indent="0">
              <a:spcBef>
                <a:spcPts val="601"/>
              </a:spcBef>
              <a:buNone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riendship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endships change with 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 in adulth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 supportive networks important for successful a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3"/>
          <p:cNvSpPr/>
          <p:nvPr/>
        </p:nvSpPr>
        <p:spPr>
          <a:xfrm>
            <a:off x="0" y="0"/>
            <a:ext cx="9144000" cy="6419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60" y="247644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1855a5"/>
                </a:solidFill>
                <a:latin typeface="Times New Roman"/>
              </a:rPr>
              <a:t>Cohabit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eterosexual Cohabiting Coupl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ving together as a romantic couple outside of marri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than half couples cohabit prior to marri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970, half million couples cohab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2001, over 5 million couple cohab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2007, 51 million couples cohab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eterosexual Cohabiting Couples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hips range from casual to intimate and commit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ge students cohabit for financial reasons and conven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re of relat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habitation: a childless plan of a relation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eterosexual Cohabiting Couples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sual theo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cohabitation changes individuals’ attitudes about marriage and relation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lection theo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cohabitants have certain character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asurement theo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researchers to consider cohabiting years and marriage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ay Cohabiting Coupl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urdek (1998) studied gay, lesbian, married cou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onship satisfactory for all 3 groups at beginning of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onship declined slightly at same rate for all 3 group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lict over same things: sharing power, personal flaws, intimacy, sexuality, personal d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ay Cohabiting Couples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urdek (1998) studied gay, lesbian, married cou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bian partners reported higher level of intimacy and most e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3"/>
          <p:cNvSpPr/>
          <p:nvPr/>
        </p:nvSpPr>
        <p:spPr>
          <a:xfrm>
            <a:off x="0" y="0"/>
            <a:ext cx="9144000" cy="6419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9360" y="2463840"/>
            <a:ext cx="91533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1855a5"/>
                </a:solidFill>
                <a:latin typeface="Times New Roman"/>
              </a:rPr>
              <a:t>Marriage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arital Expectat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mashiro (1978): Four stages for marital rel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gical St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pouses focus on behaviors; merge lives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alized Conventional St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ollow expectations, social rules, conventions; couples move to traditional husband-wife roles; develop reputation as happy, romantic, married cou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arital Expectations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mashiro (1978): Four stages for marital rel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ividualistic St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lifestyle becomes predictable and comfortable; experience mental companionship; spouses supportive of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arital Expectations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mashiro (1978): Four stages for marital rel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ffirmational St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unconditional respect and support within marriage; able to manage uncertainties in life; focus on highest principles and values; explore purpose and meaning of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veloping Friendship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son (2001): friends have similar values, interests, leisure activities and backgr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similar in age, income, parental status,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ve close by or in similar neighborh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appearance is not relative to friend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arital Expectations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arch on marital satisfaction shows “U-shaped” cur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satisfaction in the begi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comfort level increases satisfaction decreases until middle-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decreasing demands of childcare and careers, satisfaction increases ag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arital Expectations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study show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ine in marital satisfaction throughout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increased satisfaction in later adulth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epest decline in earliest stage and end of marri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3"/>
          <p:cNvSpPr/>
          <p:nvPr/>
        </p:nvSpPr>
        <p:spPr>
          <a:xfrm>
            <a:off x="0" y="0"/>
            <a:ext cx="9144000" cy="6419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igure 5.1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arital Satisfaction in Cross-Sectional and Longitudinal Data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ed from Van Laningham, Johnson, &amp; Amato (2001). Reprinted with permission of UNC Pres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Picture 2" descr="Screen shot 2010-10-22 at 11.12.46 AM.jpg"/>
          <p:cNvPicPr/>
          <p:nvPr/>
        </p:nvPicPr>
        <p:blipFill>
          <a:blip r:embed="rId1"/>
          <a:stretch/>
        </p:blipFill>
        <p:spPr>
          <a:xfrm>
            <a:off x="235080" y="1155600"/>
            <a:ext cx="868824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appy and Healthy Marria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efi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ter quality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ter job 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ter in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ter physical and mental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d cognitive functioning into old 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appy and Healthy Marriages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 of healthy, happy marriag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ouses committed to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effective communic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ccessful conflict-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appy and Healthy Marriages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importa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yal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d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dings and New Beginning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 Center for Health Statistics (NCHS) reports more than half as many divorces as marri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ed estimates: 40-50% marriages to end in divo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aracteristics of Couples Who Divorc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orc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ried at a younger 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problems with: sex, money,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otional in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levels of love, liking/trusting part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ychological distress at beginning of marri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aracteristics of Couples Who Divorce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se who divorce after many yea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k romantic 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 love: more antagonism for spouse from begi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bivalent about marri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responsive to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peful that relationship will im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aracteristics of Couples Who Divorce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sons for divorc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idelity/adult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pat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inking/drug abuse – growing ap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than half of all divorces are initiated by the w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veloping Friendships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delson and Aboud (1999) identified 6 functions of friendshi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65160" indent="-514440">
              <a:spcBef>
                <a:spcPts val="700"/>
              </a:spcBef>
              <a:buClr>
                <a:srgbClr val="31668e"/>
              </a:buClr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mulating compan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5160" indent="-514440">
              <a:spcBef>
                <a:spcPts val="700"/>
              </a:spcBef>
              <a:buClr>
                <a:srgbClr val="31668e"/>
              </a:buClr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5160" indent="-514440">
              <a:spcBef>
                <a:spcPts val="700"/>
              </a:spcBef>
              <a:buClr>
                <a:srgbClr val="31668e"/>
              </a:buClr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im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5160" indent="-514440">
              <a:spcBef>
                <a:spcPts val="700"/>
              </a:spcBef>
              <a:buClr>
                <a:srgbClr val="31668e"/>
              </a:buClr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iable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5160" indent="-514440">
              <a:spcBef>
                <a:spcPts val="700"/>
              </a:spcBef>
              <a:buClr>
                <a:srgbClr val="31668e"/>
              </a:buClr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f-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5160" indent="-514440">
              <a:spcBef>
                <a:spcPts val="700"/>
              </a:spcBef>
              <a:buClr>
                <a:srgbClr val="31668e"/>
              </a:buClr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otional 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djusting to Divorc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ter adjustment made by tho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younger when divor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te div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nt div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steady emplo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satisfactory in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formed new romantic relat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djusting to Divorce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orced individuals experie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 in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t fri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e to different res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er education leads to better adjus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 adjust better than w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marria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marri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marriage that is not first for one or both spo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5% of divorcees remarry; men more likely to do 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riages when end in divorce, happen quick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riages as stable as first marriages for 40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marriages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ried people prefer higher autonomy/indepen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dowed less likely to remar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ncial stresses primary reason for remarri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voy Model of Friendshi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ed by Antonucci in late 1980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endship conceptualized as having three layers/circles around individu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mo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ircle: friends/family who provide most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dd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ircle: important people, but not as cl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ircle: supportive, because of role played – co-workers, neighb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voy Model of Friendship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oys are not fix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ve with age and life experi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quency of negative relationships declines with age, except marri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voy Model of Friendship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gative interaction with parents increases with 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men grow closer through self-disclosure and emotional conver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 create intimate relationships through shared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ingle Lifestyl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ng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someone unmarried, not in or seeking a love relation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-married individu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or sense of well-be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suicide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ingle Lifestyles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44160" indent="-3441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-married wom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0200" indent="-3376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ppy with lifestyle cho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0200" indent="-3376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dom from responsibility to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0200" indent="-3376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se of personal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0200" indent="-3376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ility to pursue career, tra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4160" indent="-3441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 adults deal wit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0200" indent="-3376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stig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0200" indent="-3376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nd time and effort creating meaningful social lifesty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15:17:26Z</dcterms:created>
  <dc:creator>James Ramsey</dc:creator>
  <dc:description/>
  <dc:language>en-US</dc:language>
  <cp:lastModifiedBy>Adam Vaughn</cp:lastModifiedBy>
  <dcterms:modified xsi:type="dcterms:W3CDTF">2010-10-27T15:52:11Z</dcterms:modified>
  <cp:revision>17</cp:revision>
  <dc:subject/>
  <dc:title>PowerPoint Presentation</dc:title>
</cp:coreProperties>
</file>