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Families,Generations,</a:t>
            </a: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and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ental Satisf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conflict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ole strain occurs when demands and expectations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’s negative work experience related to negative par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strain experienced by women when return to work after maternity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 of g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ing Not to Pa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 is strong among highly educated career-oriente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d to as child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n as selfish, deviant, less warm, caring and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free women: unfem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free men: less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osing Not to Par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d to as child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: engaging in fulfilling/demanding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fference in quality of life, self-esteem,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ndpare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grandparents: in early 50s, married, not re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 vary in age, financial situation, social status, approach to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ndparenting Styles and R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garten and Weinstein, 196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See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fgat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family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t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ndparenting Styles and Ro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ller et al, 2002, grandparent-grandchild relationsh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y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wards of Grandpare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 with grandchildren without parenting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to sh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m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wise el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well-being, good physic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 Issues in Grandpare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nderstanding of younger’s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contact with grand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imposed; tir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 Issues in Grandparent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rogate pa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/both parents work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dial parent: young, single, un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on drugs, abuse child/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 Issues in Grandparent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usting physically and finan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parents less satisfied when f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out of place with friends/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intrusion f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vulnerable position when children div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9360" y="2463840"/>
            <a:ext cx="9153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Pare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 Issues in Grandparent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hildren have more contact with maternal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djust better if/when parents div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9360" y="250200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Family Role Transi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ition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explain family role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del has uniqu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ways we compensate for losses as familie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ition Model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-cour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cisions made in life-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of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f history, society, culture o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ative disadvant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how early life circumstances influence later role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ifting Status in the Fami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parents and adult children changes over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dult children moving back with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arents, tension caused by individual issues, finances,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ildren, tension caused by personality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ifting Status in the Famil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children provide more support when closer to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offer support in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daughters more suppor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overestimate support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underestimate support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ifting Status in the Famil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giving Trajectory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cirelli (2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jor stages in active caregiv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rn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ildren begin to observe decline in mental/physical health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ing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blems occur frequently; adult children persuade parents to tak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ult children take action; provide assistance t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pportive Family Memb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have own social suppor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, siblings, close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relatives with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r/sister relationship str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/brother relationship weak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married children/those with no children closest to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" y="255276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Living Arrangements Across Adulth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Home Atmosphe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” part of person’s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personality and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oles learn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ies buil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hways to Pare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s for healthy pregna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lcohol, caffeine, and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iet; sleeping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ver-the-counter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extra iron, fo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Home Atmospher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“home” chang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adults: how they want to be seen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ge: ret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age: saf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ical Housing Arrange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s leave urban area for suburban those with small children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r schools, better academic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to be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do not leave urban area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 in racial,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close to family and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50 and div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ical Housing Arrangemen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% live in urba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% live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ghborhood and Commun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s of rural areas report high level of community satisfaction;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-centr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close geographic proximity of family/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 in loc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community-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life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ghborhood and Communit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ence-centr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rban resid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ies define interperson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travel outside geograph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ectations from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ghborhood and Communit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neighborho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strong sense of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 to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cially, politically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facilities area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ighborhood and Communiti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 Neighborho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residents’ needs (mega m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by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/public transit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tirement Migration Models – first move, young-old, newly re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odels of Housing Mi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–decision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ision to move depends on things that pull toward relocation: climate, lower taxes, growing economy, sce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tirement Migration Models – first move, young-old, newly re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odels of Housing Mi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-course migration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aracteristics that qualify as attractive feature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caters to new reti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migration for part of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tirement Migration Models – first move, young-old, newly re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move in life-course model, when older adults experience trouble with dail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closer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to assisted care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hways to Parent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til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6.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equally with women, men, un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national, state, loca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0">
              <a:lnSpc>
                <a:spcPts val="3637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and third move signal onset of addition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in place: like to choose where they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in the area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ts val="3637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and coordinate with providers of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0">
              <a:lnSpc>
                <a:spcPts val="363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with Assistance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living varies with degree of assistanc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unit houses, condominiums, a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ith meals, transportation,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with Assistance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s get sense of “home”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control have outlet of self-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fortable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ing Options for Older Adul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with Assistance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ommunity/villages prov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for independent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ursing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with assisted-care facility/hospital/nursing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ts have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hways to Parent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option from: pregnant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/public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/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nothe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option: birth family and adopted child have some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gnificant difference in children raised by straight or ga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ental Satisfa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pect of parenting r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iness, love, affection, sense of meaning, purpose, fulfillment,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, fun, st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p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s personal freedom, social life, activities outside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ing younger children more time-consuming than parenting adolescents/younge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0">
              <a:lnSpc>
                <a:spcPts val="3436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ental Satisf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identity more important than profess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gener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satisfaction influenc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quality and levels of role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arital quality leads high parental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ental Satisf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port less levels of parent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with stepchildren seen as marital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ental Satisfac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conflict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ole strain occurs when demands and expectations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arental satisfaction when spouses support and help alleviate role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’s work experience unrelated to par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53:24Z</dcterms:created>
  <dc:creator>James Ramsey</dc:creator>
  <dc:description/>
  <dc:language>en-US</dc:language>
  <cp:lastModifiedBy>Adam Vaughn</cp:lastModifiedBy>
  <dcterms:modified xsi:type="dcterms:W3CDTF">2010-10-27T16:55:50Z</dcterms:modified>
  <cp:revision>14</cp:revision>
  <dc:subject/>
  <dc:title>PowerPoint Presentation</dc:title>
</cp:coreProperties>
</file>