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Complex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0888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luid and Crystallized Intellige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ystal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ig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ocabulary, mathematic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decline in old-old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lized intelligence influenc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occu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ternative Theories of Intellig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archic theory of intellig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roposed by Robert Ster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tical intellig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bstract thinking, reasoning, cognitiv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ve intellig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xperiential learning/adaptation through trial and error, ability to respond to tasks, challenges, new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 intellig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mmon sense, “street smar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ternative Theories of Intellige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excel in one or two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f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ose who can balance all three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Screen shot 2010-10-22 at 11.41.02 AM.jpg"/>
          <p:cNvPicPr/>
          <p:nvPr/>
        </p:nvPicPr>
        <p:blipFill>
          <a:blip r:embed="rId1"/>
          <a:stretch/>
        </p:blipFill>
        <p:spPr>
          <a:xfrm>
            <a:off x="236520" y="644400"/>
            <a:ext cx="868824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9.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ernberg’s Patterns of Gifted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Screen shot 2010-10-22 at 11.41.32 AM.jpg"/>
          <p:cNvPicPr/>
          <p:nvPr/>
        </p:nvPicPr>
        <p:blipFill>
          <a:blip r:embed="rId1"/>
          <a:stretch/>
        </p:blipFill>
        <p:spPr>
          <a:xfrm>
            <a:off x="236520" y="1360440"/>
            <a:ext cx="86882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ternative Theories of Intellige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rdner’s theory of multiple intellig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solated eight intelli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ssociated with a specific location in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into account cultural and historical data and their link to evolution of cognitiv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Screen shot 2010-10-22 at 11.44.08 AM.jpg"/>
          <p:cNvPicPr/>
          <p:nvPr/>
        </p:nvPicPr>
        <p:blipFill>
          <a:blip r:embed="rId1"/>
          <a:stretch/>
        </p:blipFill>
        <p:spPr>
          <a:xfrm>
            <a:off x="236520" y="614520"/>
            <a:ext cx="868824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9.2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rdner’s Multiple Intellig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Screen shot 2010-10-22 at 11.44.33 AM.jpg"/>
          <p:cNvPicPr/>
          <p:nvPr/>
        </p:nvPicPr>
        <p:blipFill>
          <a:blip r:embed="rId1"/>
          <a:stretch/>
        </p:blipFill>
        <p:spPr>
          <a:xfrm>
            <a:off x="219240" y="1744560"/>
            <a:ext cx="87055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v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concept to define and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characteristics found in creative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i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ness to new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 to consult with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v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rtists, productions of creativ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in young/middle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s throughout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llig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: anything, smart, clever, cre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approaches to intellig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ychometric persp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phasizes measurement and assessment of intel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gnitive persp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phasizes information processing, fluid and crystallized intel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v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rtists, productions of creativ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ass through s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ng adulthood: creative talents are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later young adulthood to middle adulthood: focus is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middle adulthood: adjust work to physical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middle or late adulthood: enjoyment of creativ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v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rtists, productions of creativ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ass through s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late adulthood: creation is primary passion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g phenomen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reat/master works produced in last year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v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productivity decline with age; complexity and motivation continue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individual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confo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in exploring own identit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v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ense of gener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9360" y="236232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Everyday Problem Solv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ctors in Problem-Solving Perform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-defined probl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learly 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arting point, ending point, problem-solving procedure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-defined probl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ffer little c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day functioning involves combination of well and ill-define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problem-solving associated with social and environment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ctors in Problem-Solving Performa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 better at problem-solving when topic of interest 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er adults better at school exams and compute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adults solve grandparenting-related problem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ctors in Problem-Solving Performa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er adults better with well-defined and abstract problems, provide mo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-aged and older adults generate fewer, targeted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er adults take less time to problem-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adults take more time to problem-solve; best at solving practic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ctors in Problem-Solving Performa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-rate same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s problem-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preference: spouse, adult children, siblings, friends,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mpensates for cognitive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ection, Optimization, and Compensation Strate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, optimization and compensation (SO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strategy for everyday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overall approach to lif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of highest priorities or goals in a situation requ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one’s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nsates for deficits/losses to reach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llige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approaches to intellig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 startAt="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xtual persp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phasizes everyday problem-solving and person-environment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 startAt="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o-Piagetian persp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phasizes development from formal, analytical thinking to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ection, Optimization, and Compensation Strateg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utilization of SOC strategy result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stress at work and in famil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role conflict at work and in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s family and work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0" y="242568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Moral Reaso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olving Everyday Personal Moral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al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s study provides determining the right course of action when in a moral di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change across the life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-component mod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ral behavior proposed by Rest and Narva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 sensitivity: involves several types of intelligence, including practical and inter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olving Everyday Personal Moral Problem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-component mod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ral behavior proposed by Rest and Narva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eriod" startAt="2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al reas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cess by which we decide what to do in a particula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functioning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action chosen is consistent with values and assessment of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olving Everyday Personal Moral Problem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-component mod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ral behavior proposed by Rest and Narva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700"/>
              </a:spcBef>
              <a:buClr>
                <a:srgbClr val="31668e"/>
              </a:buClr>
              <a:buFont typeface="Arial"/>
              <a:buAutoNum type="arabi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al moti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rforming the best course of action determined through mor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3409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in form: guilt, shame, em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700"/>
              </a:spcBef>
              <a:buClr>
                <a:srgbClr val="31668e"/>
              </a:buClr>
              <a:buFont typeface="Arial"/>
              <a:buAutoNum type="arabi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al charac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lies on ego strength and conviction to do the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3409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mfortable due to predictable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3409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ce to follow through dec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al Cognition Across Adulth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l reasoning sometimes referred to as moral jud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l values and issues occur in predictable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s may be slow/q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individuals will not achieve highest stage of mor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al Cognition Across Adulthood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lberg’s theory of moral reas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stages (2 per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reconventi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: focus is on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ishment/obedience mor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cus on physical punishment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al purpose and 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: others’ perspective given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al Cognition Across Adulthood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lberg’s theory of moral reas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n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king: focus is o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tual interpersonal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clude/consult others in solving personal mor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systems and con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sider the large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al Cognition Across Adulthood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lberg’s theory of moral reas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conven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king: focus is o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 and individual righ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raming of ill-structured moral problems in terms 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ethical princi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ulmination of all previous stages; total commitment to self-chosen ethical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ancing in Moral Cogn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 are not uniform in their mor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lberg proposed 2 criteria necessary for moral grow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-tak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decline in moral reasoning due to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sessment of Intellig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igence quotient (I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parison of mental age with chronological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schler Adult Intelligence Scale (WAI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es cognition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u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Differences in Moral Cogn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lligan (1982) proposed 3 phases/levels for moral grow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own needs and des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y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truth: balance our needs with need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fference in gender-related mor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Differences in Moral Cogni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l reasoning strongly predicted by education level and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ues Systems and Moral Cogn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 have stable se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in value system change with time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ues Systems and Moral Cogni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of guidance when resolving personal confli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ed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sessment of Intellige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 increases in young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s in middle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es in early 60s and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difference and variations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testing adults have changed that consider ageing: e.g., larger pi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sessment of Intellige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memory and processing speed decline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vocabulary does not decline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luid and Crystallized Intellig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ly functioning, yet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luid and Crystallized Intellige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id intellig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bstract reasoning, perceptual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ly similar to work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mechanics similar: refers to biological process involved in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intelligence and cognitive mechanics declin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more noticeable after 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luid and Crystallized Intellige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ystal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ig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ocabulary, mathematic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cognitive pragmatics: social and cultural ways of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reading, language comprehension, and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 stable through most of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until middle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aus until very late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56:53Z</dcterms:created>
  <dc:creator>James Ramsey</dc:creator>
  <dc:description/>
  <dc:language>en-US</dc:language>
  <cp:lastModifiedBy>Adam Vaughn</cp:lastModifiedBy>
  <dcterms:modified xsi:type="dcterms:W3CDTF">2010-10-28T17:15:36Z</dcterms:modified>
  <cp:revision>11</cp:revision>
  <dc:subject/>
  <dc:title>PowerPoint Presentation</dc:title>
</cp:coreProperties>
</file>