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3421-60A4-45FA-81BC-C27C9474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6E286-8E88-4B34-BDF8-2493BAE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CD79-5022-4BAC-86BC-C220900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38ACD-9B58-4F23-B856-3464863C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65EE-7830-4EF6-A392-1C94DCD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E45B-24ED-4F82-A944-1C0556F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06C2-D166-4C04-8A0F-32BC95D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E3CC-B05E-41F3-8CA1-2B5F05B7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68AC-4CB2-4139-9110-D52A5DC4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E25B-D94A-40DB-B1C2-761183AE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CB364-B44D-4E76-9996-7F3125B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2046-EB74-4E97-B7FA-1446298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AC9F7-5B2C-4E4D-BC34-22D6D3F2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68A6-EEF5-4C64-9633-57B804C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88DA-3027-4690-AC93-8B9D2B7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3F62D-0FCA-4551-A96E-190A521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D5B7-DC81-4591-A898-B1E53DE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4916-F9D0-4A59-BF6D-E3B18C6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18E8-F54D-4AA7-A8BD-17C4C69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167B-325E-4101-9C71-23A72EC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5AA09-6DFE-443D-9625-9F87A7AA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9F79-10B6-481B-9BE5-253B8B42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9C818-38C9-42D5-9B79-F2C7245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A3662-6231-49F9-B015-FB8C3830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526CA-12E0-48AA-9082-5A9FF2D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44218-C1BD-4955-B307-33DF9F3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666BF-6911-472A-AE8B-EAFE61E0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255F9-20C4-4A87-B447-5669FA4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EB2FB-259E-4EA6-BB45-B0C57AF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BE200-2C3A-4895-8CD2-EE4D7F1E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44B11-80A9-4248-A689-1697BC81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EE205-56E1-4F19-AD5D-6B315983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C4A5-D911-40B3-B89A-BBDBBC0C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3D8-9975-4DE4-8D43-E7CCBCDC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CFC-1A02-43BE-AB89-D41DB505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E91-6F27-4897-BA46-231ED25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F7B-57F0-47FB-B3F7-0A624FBE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909-729A-4CBD-926A-D43AE477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B7F-94C9-4037-BE6F-B1C5A3C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9C8-DE02-4065-99A7-C01DDB69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C42-E33A-4BDE-86FB-6145EFC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5A4-A33F-486D-8858-15D42E1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494-D89D-405B-AEE3-895D1AE4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CB1-2573-4670-B3D8-9BA8607C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DD6-F801-4E21-BDA7-6068DE10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8C8-87F0-4A8B-ADD3-3C60864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02F-CBC2-4324-ADA1-94992C5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8C5-FEBC-45E4-9FA3-7C87524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D2E-5824-41D9-9463-23E7193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C17C-205D-4214-B0BC-0F76511F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DB82-70F1-437A-BB34-C31C6DB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CD7-D787-4D8C-9932-B0D416A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033-4173-4E88-8D64-1C15677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A23-A30F-49E2-9ED7-381376E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EB85-294B-42D7-A4BB-9162BEA8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89D-74E5-4149-BA22-04133A0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D90-B726-46AC-BB9B-6A865C3E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F2BB-0CBA-4689-89B9-7DC5A7AE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23BC-B7E3-47F3-9A26-EE5661D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5640-60F2-4D32-89DC-A09EEA9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4D2D-E629-4B4E-BE41-A3B98EC6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27F3-22D0-4334-8C9C-0DCDFA84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9A37-55F9-4DE2-9127-484E48F4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616C-372B-4775-9A4F-ADB48FC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74CC-2183-4EE2-B4E5-EEAA518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9537-0988-4B8E-8637-5EBF5C3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ACF4-B67D-4C53-9B28-16F046D8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9EBD-8260-4C36-AAA2-BAE9232B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7A45-1E46-45F3-BE7C-73426247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054B-4D06-4014-9D40-4BE93A15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C15C-FDC6-4D24-982A-824A8226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8551-377D-42B4-9A0B-E7591674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4401-03C7-4C21-A473-194DC5E7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A9AF-A22F-4628-A832-5C01841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5120-2240-4084-9815-3FF24D1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C96E4-6D73-47BE-A822-85E5A1E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6B33-349A-4E29-B607-BA266BC3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9583-4C5D-41F5-824A-B4B56F76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0531-F2B0-4889-90BC-410BE2C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C3E7-2D2E-4985-AFFF-4B48026A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5556-D05C-4BDA-9826-5E1DD622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59678-9E24-4131-84ED-45EB9B0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8676-65F8-4848-958C-A203235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0C29-963E-4AC4-A639-C36DD6C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5D37-70B2-4CE9-BA5B-E5FAE816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8BF9-2CDA-4204-B8D8-84EF6A7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7FA3-42D7-408A-83E3-9C2F7CC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A334-1764-4D90-9D1E-B9495CC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773B-114B-45CC-9672-0C28E8E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AC09-7805-4DA8-88E8-7337387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9FDA-4553-4035-9EB9-B13C57A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9A87-159E-4672-9A19-11ADC26B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AC20-C69E-4D99-89FD-DD215591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E11CD-533D-4B8B-BA80-EF3EBBB4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844D-9125-40E2-AC61-DCC84B0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AD262-24CE-48CE-9A0C-BA329A7C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705B-37D3-4F1D-AA1A-48133169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507B-9C6C-43A3-B6D0-28BC5B04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7268-9D21-4234-BC11-540FB9A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BE9F-5169-4E30-8376-F79F0B4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71782-1132-4E35-B1F1-26B85AA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02BD-6636-462B-9863-40ABF35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AC64-1C74-4EF2-8388-EB58ACBF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05D3-DA11-4562-9CF7-57E931F3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7768D-581D-48EE-801C-F9C697DA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D8F7-79B8-450A-8F51-C4232FBF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F044C-AACE-4DDC-8E1D-A33062D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3C78-55FA-4A85-B437-C47A5F5E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1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06158-BDB1-4049-82D6-82CB85B420D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FFD4F-FE4E-4EDA-808B-3713F1BA9D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5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F293E-9BEC-4186-B8D9-0436EAADA69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FADB7-1630-4EDF-ACA0-6586FDAFF9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88408-B749-4AD1-99E0-1E95BAA2E24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78EDE-8AEF-4775-BF37-62CCD53316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D211D-8422-446F-BE83-E928C24F935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011AD-5C88-4D69-AF67-37913FDB42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F76E7-B776-4E00-B35B-89CF6A3261E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69E2D-7EDC-4E34-9ABE-628FFE730B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D7F30-402C-45A3-9223-2C87211654E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EE608-5600-47C8-BB3E-A136C80DEC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80E47-09F2-491D-B0B5-BBCB33D72C7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A71BC-732C-4EAC-86FC-8AE660C8FB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6D5A2-3171-4F73-A84B-F5FE6932205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B55FB-6074-4618-9549-CF2A3E7171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C6251-6BE9-45D6-88A5-723CFDE4D77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71A9F-BBCE-40FD-98C7-214CEE5ADE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Healthy Lifestyles and Successful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n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entenaria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ver 110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60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200-300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land Centenarian Study and New England Supercentenarian Study began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centenarians and supercentenarian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1500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found th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sm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 good stress-handling and cop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slower throughou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narian men cognitive and physically stronger than their female counter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lthy Lifesty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deceler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ful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o successfu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Adults Are No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60% Americans: achieve low levels of physical activity; of them 66% are older adults, and 50% colleg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ctivity decrease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males exercise more than adult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Adults Are Not 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American and Hispanic adults less active than white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ith lower income and lower education, exercise le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hieving Physical Fi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to establish routines with regu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health scre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in from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 less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hieving Physical Fi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to im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respiratory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frequency of activities 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minutes of vigorous exercise thrice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activities five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Screen shot 2010-10-22 at 10.38.59 AM.jpg"/>
          <p:cNvPicPr/>
          <p:nvPr/>
        </p:nvPicPr>
        <p:blipFill>
          <a:blip r:embed="rId1"/>
          <a:stretch/>
        </p:blipFill>
        <p:spPr>
          <a:xfrm>
            <a:off x="222120" y="1589040"/>
            <a:ext cx="87058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aging acknowledge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and losses experienced at all points i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processes vary: occur across the life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differences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efit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alance-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efit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risk for heart diseases, increased blood-pressure, osteoporosis, diabetes, arthritis, som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ogni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efit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stres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mood, general sense of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soci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efit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not exerci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nergy, time,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knowledge of equipment, or rules of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getting hurt/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Fitn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efit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ppropriat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benefits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associated with dieting and weigh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nutrition leads to poor health, onset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rom a sedentary life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over 50 need diets rich in vitamins B12, D, 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tr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child-bearing years need diets rich in iron, fo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enefit from di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in whole grains, vegetables, frui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ugar, less processed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Screen shot 2010-10-22 at 10.40.54 AM.jpg"/>
          <p:cNvPicPr/>
          <p:nvPr/>
        </p:nvPicPr>
        <p:blipFill>
          <a:blip r:embed="rId1"/>
          <a:stretch/>
        </p:blipFill>
        <p:spPr>
          <a:xfrm>
            <a:off x="231840" y="1909800"/>
            <a:ext cx="86961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3.1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he Anatomy of MyPyramid U.S. Dept. of Agriculture (http://www.mypyramid.gov/downloads/MyPyramid_Anatomy.pd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Picture 2" descr="Screen shot 2010-10-22 at 10.43.27 AM.jpg"/>
          <p:cNvPicPr/>
          <p:nvPr/>
        </p:nvPicPr>
        <p:blipFill>
          <a:blip r:embed="rId1"/>
          <a:stretch/>
        </p:blipFill>
        <p:spPr>
          <a:xfrm>
            <a:off x="704880" y="809640"/>
            <a:ext cx="7777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tr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now paid to nutritional needs of older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nutrition leads to obesity, diabetes, an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should be combined with a balanc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r Lifesp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life in later adulthood dependent on lifestyle choices made in earlier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records show disability in older adults on a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ages of 75-84: 78% disabili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s 85+: 40% are disability-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tr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aloric intake without compromising nutrition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nutrition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or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too much, or too l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poor food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tri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tritional di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proper number of cal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dequate amount of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ich in vitamins an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physical and mental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sleep patterns have psychological, physical, and soci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has happier, productive waking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concentration, better problem-solving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eep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leep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ggis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on and memor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, social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isk of f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lnerability to many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eep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om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rouble falling asleep and remaining a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stress, illness, medications, estrogen-depletion (in women) during meno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eep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e insomnia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a regular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lcohol, nicotine, overeating, and too much liquid in the ev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comfortable bed and sleep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 Challenges to Healthy Lifesty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that raise quality of lif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le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tacles to a healthy lifesty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mo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 cause of 80-85% lung cancer and pulmonary disease-related d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 reduces life expectancy by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million chronic smokers in 20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decline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ers to seek medical advice and social support to q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moking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level of non-smokers can be achieved in 5-15 years by quitting to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0 CDC (Center for Disease Control and Prevention),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adults over 30 ob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% adults obese and over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 raises health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 increases stress, lowers self-esteem, poor self-image, reduces self-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r Lifespa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responsible for better health of older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medical care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osure to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inanci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e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level of obesity/overwe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BMI scores (body mass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18.5: under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5-24.9: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-29.9: over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+: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e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level of obesity/overwe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ith waist over 35” considered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with waist over 40” considered ob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e people prone to health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e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f obes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ood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physic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s rich in processed foods, fast foods, high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e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se we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ietar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festyl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AAA: 1 in every 12 Americans abuses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times more men are alcoholic tha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o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edic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ntional inj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older adults with alcohol-related problem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rlier-onset problem drink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tart prior to age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er-onset problem drink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rt later i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emotional exper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from change or need to change /adapt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stress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jor life events that caus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tress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aily hassles/minor events that caus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f st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a promotion at work, arrival of a baby,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job loss, illness, car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ss re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ople who react to stressful events emotionally and intensely; have less effective cop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 people tolerate stres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l stress leads to behavioral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n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ighly detrimental 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s of anxiety and ag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cognitive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n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ighly detrimental work-related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efficiency leads to comfort eating, smoking, alcohol abuse, medication abuse,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exhaustion, depersonalization, cyn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 system wea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r Lifespan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responsible for better health of older heal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 to use health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 to engage social suppor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 better sanitation, drinking water, nutri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s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-focused strate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alking to peers, mentors about stres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ing ab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otion-focused strateg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ercising, manage reaction to stressor(s), creating positive moo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use both strategies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We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ression of functional morbid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reducing/compressing the time at end of life (morbidity) with physical disabilities/less fun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le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ng – slowing the ag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Well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es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ng – reverse aging; restore function and appearance of younger chronological ag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oric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eutical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aging invo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lnSpc>
                <a:spcPts val="3436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lnSpc>
                <a:spcPts val="3436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ing Well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ts val="3436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es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ng – reverse aging; restore function and appearance of younger chronological ag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ts val="3436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atisfaction: staying happy and meeting pers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lnSpc>
                <a:spcPts val="3436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hysiologic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lnSpc>
                <a:spcPts val="3436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cial sup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lnSpc>
                <a:spcPts val="3436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ing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ediction on how long an individual will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e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umber of years a person actually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depends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30%: gene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80%: environmental and pers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is on the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0s: 3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900s: 4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77.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but slower rise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live longer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65 years, ratio is 100: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85 years, ratio is 100: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actors to gender-related tre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: sex-related hormones,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: women lead healthier lifestyles than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eat healthier, have less fat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: less aggressive, reduce stress by seeking soci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: pursue safe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ngevity and Life Expectanc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n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enar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individual of 100 years or 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approximately 50,000 American centen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0% were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0:40:59Z</dcterms:created>
  <dc:creator>James Ramsey</dc:creator>
  <dc:description/>
  <dc:language>en-US</dc:language>
  <cp:lastModifiedBy>Adam Vaughn</cp:lastModifiedBy>
  <dcterms:modified xsi:type="dcterms:W3CDTF">2010-10-26T22:59:38Z</dcterms:modified>
  <cp:revision>16</cp:revision>
  <dc:subject/>
  <dc:title>PowerPoint Presentation</dc:title>
</cp:coreProperties>
</file>