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hood and</a:t>
            </a:r>
            <a:r>
              <a:rPr b="0" lang="en-US" sz="4800" spc="-1" strike="noStrike">
                <a:solidFill>
                  <a:srgbClr val="2eb5ed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c7cb6d"/>
                </a:solidFill>
                <a:latin typeface="Times New Roman"/>
                <a:ea typeface="Times New Roman"/>
              </a:rPr>
              <a:t>A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572000" y="2967120"/>
            <a:ext cx="17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1668e"/>
                </a:solidFill>
                <a:latin typeface="Arial"/>
                <a:ea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3"/>
          <p:cNvSpPr/>
          <p:nvPr/>
        </p:nvSpPr>
        <p:spPr>
          <a:xfrm>
            <a:off x="-1440" y="16747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0205433510.jpg"/>
          <p:cNvPicPr/>
          <p:nvPr/>
        </p:nvPicPr>
        <p:blipFill>
          <a:blip r:embed="rId3"/>
          <a:stretch/>
        </p:blipFill>
        <p:spPr>
          <a:xfrm>
            <a:off x="698400" y="1984320"/>
            <a:ext cx="2911680" cy="40068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1640" y="3886200"/>
            <a:ext cx="3946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668e"/>
                </a:solidFill>
                <a:latin typeface="Arial"/>
              </a:rPr>
              <a:t>Dying,Death,and Berea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708160" y="255888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31668e"/>
                </a:solidFill>
                <a:latin typeface="Arial"/>
                <a:ea typeface="Arial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lliative Care and Hospice Progra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lli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e treats symptoms and keeps individual comf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gin anytime after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lliative Care and Hospice Program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pice c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given in last few month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erminally ill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lliative Care and Hospice Program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ological concerns for patients in hospice c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ness of br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tin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break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lliative Care and Hospice Program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concer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lliative Care and Hospice Program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 takes place in patient’s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professional’s prognosis that patient has less than 6 months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tient recovers, treatment can resume aggress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lliative Care and Hospice Program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s in a hospice care facility include a team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se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cal therap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ce care less costly than traditional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lliative Care and Hospice Program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, friends provide most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costs of tests and technologie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used by older members of ethnic minorit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uthanasia and Physician-Assisted Dea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lemma: whether severely ill patients to continue futile life-sustaining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sive euthana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llowing “nature to take its cour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euthana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irect action of shortening patient’s life; is ille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uthanasia and Physician-Assisted Death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ian-assisted suic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legal in the state of Oregon, and other parts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versial to consider terminally ill capable of ration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-assisted suicide not unconstitu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egon Death With Dignity Act passed in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deaths account for 0.01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9360" y="2438280"/>
            <a:ext cx="9153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Close to Dea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ath Anxie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fears of death-related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 of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of our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it after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beyond this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obli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r of death peaks in young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d-of-life Research iss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for researchers to respect individuals who are d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techniques should be least intru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plan reviewed by Institutional Review Boards (IR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d-of-life Research issu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B looks for research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helpful/usefu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no distress to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find willing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ay leave study prior to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sycholog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sabeth Kubler-Ross’s book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On Death and D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ublished in 19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sychological Chang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-stage model of dying patients propo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1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believes they are mis-diagn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2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hows anger at God, loved ones, medical professionals,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sychological Chang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-stage model of dying patients propo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3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g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pone death; may p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4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th seems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5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ment of one’s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sychological Chang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 too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ay move around/skip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close to death do not soc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differences seen in the experience of d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acting with those Who are Dy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ing person may be worried about being aband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s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ly, and psycholog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when dying person wishes to; remain close and be respect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to communicate about important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acting with those Who are Dy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s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gnore/downplay the fact of d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epared to ask hard questions, using difficult (painful)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environment of comfort for the individual: place personal items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ological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ily changes as death approa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wsiness and 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interest in food/water; reduced in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bladder and bowe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 and skin c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th rat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reathe noi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untary m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zure may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ological Chang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ly comfort dying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y with body of bereaved, pray and griev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ath Anxiet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ines in middle age and late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 adults closer to death do not report anxiety; report anxiety of prolonged dy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9360" y="2438280"/>
            <a:ext cx="9153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Transi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king the End of Lif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ing of event of death influenc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tra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and family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eral/memorial service facilitates a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king the End of Lif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ditional fune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ing/vis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at funeral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ial, entombment, cre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bur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eparation or embal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bu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king the End of Lif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cre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Trade Commission (FTC) encourages adults to plan their fu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funeral cost is $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reav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time individuals spend to recover 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rrect way to cope with gr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ment influenc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loved one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/cultural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reave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rea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ime between experience of loss and full adjustment to 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e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motional reaction to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r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ehaviors expected by one’s cultural and/or religious tra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reave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phases of bereav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ck and numb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on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organization and des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icated Grie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ts val="3538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difficulty adjusting to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lnSpc>
                <a:spcPts val="3538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ng long-lasting and intense gr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lnSpc>
                <a:spcPts val="3538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ings of emptiness, bitt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lnSpc>
                <a:spcPts val="3538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 of grief may reduce after six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lnSpc>
                <a:spcPts val="3538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have difficulty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lnSpc>
                <a:spcPts val="3538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ing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lnSpc>
                <a:spcPts val="3538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lnSpc>
                <a:spcPts val="3538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fun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0">
              <a:lnSpc>
                <a:spcPts val="3538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icated Grief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ed grief seen in recent widows/wid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sign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depressive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ic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ed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 to join support group or seek psycho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ath Anxiet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more death anxiety than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, confident, competent women report less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who are independent, capable of managing domestic and financial matters report less anx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sity may be linked to reduced death anxiety and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9360" y="2438280"/>
            <a:ext cx="9153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End-of-life Deci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vance Dir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 Directives: legal documents detailing (wishes of) end-of-life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patients to survive through emergency life-support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vance Directiv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Self-Determination Act, 1960, empowers pati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can direct own 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/refus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dvance directiv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ychiatric advance directiv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ental health trea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vance Directiv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ving w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elf directive with instructions to sustain/prolong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preparing, revisit the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care prox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ppoint designated individual to make important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able power of attorney of health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procedur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able power of attorney for fin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vance Directiv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patients take advantage of advance di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s living in hospice care more likely to do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er blacks and Hispanics likely to do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7:50:51Z</dcterms:created>
  <dc:creator>James Ramsey</dc:creator>
  <dc:description/>
  <dc:language>en-US</dc:language>
  <cp:lastModifiedBy>Adam Vaughn</cp:lastModifiedBy>
  <dcterms:modified xsi:type="dcterms:W3CDTF">2010-10-28T18:03:48Z</dcterms:modified>
  <cp:revision>11</cp:revision>
  <dc:subject/>
  <dc:title>PowerPoint Presentation</dc:title>
</cp:coreProperties>
</file>