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855ED-C829-4564-ABDC-43186B19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37ADA-4F37-4EFA-B7D8-1B66292C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F333E-F550-439B-9267-61EA221D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7669F-18D7-412B-A0F2-C594C446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E955D-0A79-4FD5-A08E-B8DB02B5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0F5FB-3208-478F-A9B7-CCEF37CA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DDE04-2CDD-4461-A149-AC831FF0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E481C-C72A-4B37-8F95-92DB832C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A2BFD-F99D-4FAE-8674-79CA8C8D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AA554-A4A1-4130-B19B-7D45ABA0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22C99-14B4-4BB9-9D20-81E7DF23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26AC3-F69C-4C98-B862-A9FDA8A9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38E10-FA0F-4800-B1F0-60F7611A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FE56A-F6AE-4735-9D16-ADBB8201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DC6CC-7C54-4935-9872-91DF86F0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CED8B-D355-41B2-A223-1F1A8CDB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4CD27-AF0B-44F9-A931-2A256E8C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2D21E-DECF-4B8D-8C00-2497EEA9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D683A-ED27-474A-8C8C-66D39DF2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F3D75-B019-4D5F-AAD9-E7EF2543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A2E55-2739-447B-9590-D024B99B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03356-43C7-444D-9931-DF9443DE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87FC6-11C1-4520-9259-7B211054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DB927-B281-4DE5-BCCF-F38C2EB1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12CA1-24E6-474F-AFC0-B1DD1726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D1927-CAA8-425C-848C-89A39D2D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A3485-5C98-4366-8FB8-DBFCB5FD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FDA9D-00CF-4D56-9D29-5857DC09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323D6-6D82-41F1-9F26-D22453F6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DE328-141E-4C48-BE10-338D182B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105CF-76A3-46BA-A8A2-6FC9AAEC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A0855-3AD8-4BDC-BF9B-5E215E5E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F777B-48C2-4E64-8FF9-9DB5B157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DB4-573B-476D-9AFB-7E8ABCFF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5F3-7444-4B4C-B54D-6783E595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412-492C-43A1-8D7D-AC06C720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081-4905-4EB0-B2A1-E3738F53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046D-DAA6-4235-ADB1-5AF6593D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FB40-6AD6-48F7-B14A-CDE574BF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EA38-5EBD-400A-B8EE-FFB5AC41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373-F134-4279-94B3-850E48EE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00D-7D3F-41D6-8502-090A205C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23C-6A20-4DD9-8307-DD2B4305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DD3-F230-4EC9-B638-2D023F94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18FF-7D10-4AA7-994B-A339BBCA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255C-C6B1-409F-8A0A-49220A42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8D87-EECD-408C-8CB7-8333D4C7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B4B0-B820-433B-AE49-274898EA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1307-E400-4B1C-8D8F-986E22EE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0FF5-467A-4E76-88B8-DC3E8F43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935E-A7BF-4A3C-B52A-82617F98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67E9-A542-46BD-B188-E936A338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32BB-E333-4050-928E-2AE3D3D5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25D3-5282-4EC7-B3D4-EB514A4A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3D31-C81E-4521-AE58-AE8FA1EE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077C-C83B-4589-800C-7303B84C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4C1E-8D0C-4BFC-B37F-288D43B3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5D5D1-422C-438C-BC4C-0235AD13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25815-3B97-4500-9ACB-D6636077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30691-EA49-4D99-922F-7FEB00E2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DD5D0-B4D6-4421-912D-ADC905C9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AC1A1-AFAA-4E38-8BFA-9769C28C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D112F-08BE-47B5-BD16-97E996DF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6A225-CC78-4681-83DD-791DD371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C7DB1-A7DB-4C8A-A42F-6E036C5F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34563-6456-4BFA-83A5-1F8349C8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C47DA-CF97-4E33-ABB8-17937914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D819F-ED16-47F7-957B-10733BED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80655-70BD-4FD8-8BE0-A4150A09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60E43-D064-4087-83DE-427495EE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4AE30-00E6-4837-99B4-C4D9427D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888FC-D9BD-4E9C-931B-37C36EC8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0C49B-C86A-4FC2-BBA4-55C03475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105D9-51F0-423A-AD48-EA9371C7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8E5F9-8782-450D-BE49-38BB717A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75A37-24D7-44DC-9DA9-C0DEAE41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CA02D-34F1-47D5-B60D-5FDDBD2D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4FA94-36F1-4A59-A0D2-B85B7422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3F920-8F0E-4BAC-A323-A1550D2D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E92C7-9D1B-4CFD-8B7F-DC99703C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3613F-DCA4-425A-82AC-C559A032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E510E-FDF2-46FB-8286-77BEE11D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0F69E-ED86-4724-B506-9604BEEF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1AACE-AA6B-49A1-B263-1F16504A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42216-CDDD-476B-B30B-3F5D3EE8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6172C-713C-4466-AC43-5E37191B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38433-4867-4D5A-B111-21548015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61F77-4067-46E3-96C1-F29AF8D9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740A5-BE78-424F-912F-F58AF580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6FD61-5EFD-42A6-95B2-2178AC9B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27389-5F7D-4122-84E7-09813216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51F48-1D38-40C5-BAE7-3BB873D9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F1FE7-2732-417C-B5C0-4A60ED84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D1433-8599-4A65-9E96-81F3463A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15F30-C21D-42F7-B2C4-C50037E7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38D8B-CD3B-4E82-8DFB-460239E7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34352-5B1F-4036-892F-49A30E11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38A13-BA5F-43D0-889B-BCB8CE84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15C3F-589C-4891-B70E-D48B9DE3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D3F7A-7B41-4FA9-BCE8-6F2E8DED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8A32D-AE1A-4DFF-8B0A-8BA1B8B0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94938-5738-4B88-82FA-33A2346C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E1495-85F0-41ED-9509-7C93F08C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F4AE8-89DF-4B04-A3F0-20C61EDF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3DFD1-13B7-45A2-B317-A2A278FD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B85BC-96E0-4DF8-9747-136962CF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0360D-07DA-40D5-B1B9-92DFF72D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152B1-0909-4AC9-9633-A0DEC928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413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8BC40-47FB-4D6E-A732-5FDBCB924B60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D025F-3E3D-48A8-A187-C292190E1D5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459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FC6FA-72B9-4235-B3C7-AD6701E5C5DD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3CDAE-E11A-4EBC-8551-6B1E0B25D98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240" y="0"/>
            <a:ext cx="9140760" cy="167652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ulthood and</a:t>
            </a:r>
            <a:r>
              <a:rPr b="0" lang="en-US" sz="4800" spc="-1" strike="noStrike">
                <a:solidFill>
                  <a:srgbClr val="2eb5ed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c7cb6d"/>
                </a:solidFill>
                <a:latin typeface="Times New Roman"/>
                <a:ea typeface="Times New Roman"/>
              </a:rPr>
              <a:t>A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572000" y="2967120"/>
            <a:ext cx="17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1668e"/>
                </a:solidFill>
                <a:latin typeface="Arial"/>
                <a:ea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3"/>
          <p:cNvSpPr/>
          <p:nvPr/>
        </p:nvSpPr>
        <p:spPr>
          <a:xfrm>
            <a:off x="-1440" y="16747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0205433510.jpg"/>
          <p:cNvPicPr/>
          <p:nvPr/>
        </p:nvPicPr>
        <p:blipFill>
          <a:blip r:embed="rId3"/>
          <a:stretch/>
        </p:blipFill>
        <p:spPr>
          <a:xfrm>
            <a:off x="698400" y="1984320"/>
            <a:ext cx="2911680" cy="40068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91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B751E-9BDE-4BA2-8408-248634824CF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F7541-0689-4E03-A8A8-975D516D677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137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8B8FE-3354-4B8F-93AD-9B2A92696C0E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BA213-43C1-449C-B229-FB6A85055A3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D0DFF-03FC-432C-92D4-819BF44E6BBA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0292D-D6B8-48CA-AE43-2F2F3448979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229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61FE3-2624-46E0-9322-589EE7809F0D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1B27E-B1F2-45ED-A3A7-CBC0B3EB747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275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DA76D-D58E-4B2F-A1E1-7CF18D25792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29FDC-7F04-4FA3-BB3A-7C44D03CE7E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321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19EE6-4D75-4AEB-A9FA-033A6C4B137C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813E5-B009-42B2-A347-6551D85F360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367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0B2CD-7BB3-4FCC-9253-8587926A0000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390B2-585B-4633-B0A1-58C41DDFE9F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1640" y="3886200"/>
            <a:ext cx="39466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668e"/>
                </a:solidFill>
                <a:latin typeface="Arial"/>
              </a:rPr>
              <a:t>Identity Development and 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5708880" y="25588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31668e"/>
                </a:solidFill>
                <a:latin typeface="Arial"/>
                <a:ea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al identity is equally important for those who are culturally ingr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ia: optimal progression of stages: foreclosure – moratorium – identity achie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Adult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kson: Intimacy versus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of this stage: trust and vuln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ima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velops, relationships are comfor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s to trust in self and others, co-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fraid and hesitant to form close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ia: Depth and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s revisit/cycle through identity issues with each new phase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elements of adolescence: exploration and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elements of young adulthood: depth in personal relationships and ability to make las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ia: Depth and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ia’s parallel identity status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 achievement-In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torium-Pre in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losure-Pseudo in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 Diffusion-Stereotyped or Iso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ia: Depth and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im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depth in personal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t themselves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establish long-term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iest of the f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ia: Depth and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 intim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ing for/desiring depth i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 intim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believe in striving for depth i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epth in intimate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ia: Depth and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eotyped/isol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/no intent to establish long-term commi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typ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lations are at a superfici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l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void close relationships; emotionally iso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ia: Depth and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selson’s analysis similar to Marcia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hma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ble to face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rc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e intimate, have trouble making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ardi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seudo intimate, high achie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f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solated, little concern for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inson: Early Adulthood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ce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-22: Early adult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-28: Entering adult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-33: Age 30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inson: Early Adulthood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ce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important tasks for satisfactory transition to adulth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d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ing a mentor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n occu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marriage and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dels of Persona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primary models of pers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d in Table 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1668e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ling Down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 30s to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ling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one’s place in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at adva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: dream about adva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: dream about competing desires for house-making and occu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Adulthood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ime of responsibility an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transition experie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Adulthood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kson: Generativity versus Stag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 of mid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enerous, generation, gen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 about next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own resources with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Adulthood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kson: Generativity versus Stag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or, train, advice next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own children, family, those in community, or sam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strength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cern for one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special to offer/share with next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ia: Inclusivity and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elements in adult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midlife identity cri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 achievement-Gen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toriaum-Pseudogen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losure-Conv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 diffusion-Stag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ia: Inclusivity and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ose who achieve this are balanced, tolerant, growth-fo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ia: Inclusivity and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seudogene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ppear to be generous, but in fact, restrictive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tic-pseudogener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are when return i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al-pseudogener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ess self-absorbed: care when gratitude expected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ia: Inclusivity and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stablish boundaries to stay within; care for those with simila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gn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o desire to be involved with others; report low life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inson: Middle Adulthood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adulthood divi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-45: mid-life 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-50: entering middle adult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-55: Age 50 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-60: culmination of middle adult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life transition: individuals re-asses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inson: Middle Adulthood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through four conflicting po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/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uction/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culine/Femi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ment/Separat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3" descr="Screen shot 2010-10-22 at 10.49.02 AM.jpg"/>
          <p:cNvPicPr/>
          <p:nvPr/>
        </p:nvPicPr>
        <p:blipFill>
          <a:blip r:embed="rId1"/>
          <a:stretch/>
        </p:blipFill>
        <p:spPr>
          <a:xfrm>
            <a:off x="237960" y="1682640"/>
            <a:ext cx="86868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inson: Middle Adulthood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onflicts resolved, transition to middle adulthood is comf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 resolved, difficult mid-life transition experie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s to midlif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ng/O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ind a functional identity in time between young and old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inson: Middle Adulthood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truction/Cre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ind a balance between planning for end of life (destruction) and exploring creativity (cre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culine/Femin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ind a balance between masculine and feminine gender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inson: Middle Adulthood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achment/Separate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ind a balance between attachment and separat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adulthood begins with midlife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s to entering middle Adult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inson: Middle Adulthood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time to modify aspects of life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ments are required in preparation for Late adult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der Identity Develop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itudinal studies indicate males and fem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hrough distinctive development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nvolved in challenging gender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s’ Longitudinal Study on women f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feminity in the 2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ing feminity in the 30s and 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der Identity Develop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s’ Longitudinal Study on women f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 role is expanded in 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owered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 of their lives” in 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life: a time of integration, self-development, and stronger sense of commitment to values and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der Identity Develop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 Study on men f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occupational and lifestyles in 2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idate position in 3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life transition in 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der Identity Develop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Adult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oger (2002) views beginning of late adulthood as a transition much like adol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er-old: 65-75: rework life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ing to decreasing physical 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d in leisure activities, volunteering,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der Identity Develop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Adult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r-old: 75+: find meaningful ways to spend their days, balancing relationships, find meaning in simple life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der Identity Develop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kson: Integrity versus Des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ntent with life and approach it with gratefulness/gra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confident; not pushed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story synthesized; generated meaning and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pa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lame others for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asily pushed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kson (1950) presented an optimistic, healthy view of huma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ggle between healthy and less healthy personality characteristics at each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to resolve crisis produ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for each stage exists before and after 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der Identity Develop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kson: Integrity versus Des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regret, despair, fear of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strength of this stage: wis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der Identity Develop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ia: Wisdom and Contin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d following parall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 achievement-Integ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torium-Nonexpl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losure-Pseudointeg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 diffusion-Despai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der Identity Develop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ia: Wisdom and Contin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dividuals with strong sense of history and current connection to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continuity in life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explora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little interest in wisdom, beliefs, o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perspective and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sense of conti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connection to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der Identity Develop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ia: Wisdom and Contin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seudointeg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use slogans, clichés as substitute for wis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 no need to develop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 of resignation regarding connection to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pai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lack wisdom and contin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nsistent values and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ittle concern for self/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der Identity Develop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otransc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of development building on la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pective shifts from physical, rational, practical approach to spiritual, universal, transc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may begin in mid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more in older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der Identity Development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isms of Erikson’s Stage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s are only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zation of stage models is too 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ence of behavior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self in eastern cultures not worthy of term “cris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ve-Factor Model of Personality Tra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ersonality characteristics can be reduced to five categories/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by McCrae and his colleagues in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account for all emotional, interpersonal, experiential, attitudinal, motivational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ed through extensiv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2" descr="Screen shot 2010-10-22 at 10.54.26 AM.jpg"/>
          <p:cNvPicPr/>
          <p:nvPr/>
        </p:nvPicPr>
        <p:blipFill>
          <a:blip r:embed="rId1"/>
          <a:stretch/>
        </p:blipFill>
        <p:spPr>
          <a:xfrm>
            <a:off x="237960" y="1473120"/>
            <a:ext cx="868680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ve-Factor Model of Personality Trai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raver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: talkative, energetic, outgoing, friendly, cheerful, spontaneous, fun-l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: Introversion: shy, reserved, withdrawn, serious, aloof, inhib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ve-Factor Model of Personality Trai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reeable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corers; good-natured, warm, gentle, soft-hearted, trustworthy, altruistic, caring, co-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corers: argumentative, antagonistic, suspicious, ruthless, and vindi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lescence and Emerging Adult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from adolescence to young adult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kson: Identity Cohesion versus Role Con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for identity involves identity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pancy between how we feel on the inside, and how we are perceived b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ve-Factor Model of Personality Trai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cientious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: responsible, self-disciplined, organized, achievement-oriented, careful, dili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: lazy, irresponsible, impulsive, disorganized, undepen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ve-Factor Model of Personality Trai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tic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: high-strung, anxious, nervous, moody, express feelings of guilt, self-pity, prone to psychological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: emotionally stable, even-tempered, calm, easy-going, relaxed, generally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ve-Factor Model of Personality Trai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ness to Exper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: curious, adventurous, daring, imaginative, original, artistic, open to new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: routine, conventional, down-to-earth, practical, less artistic, less interested in cultural purs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ve-Factor Model of Personality Trai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complete theory of pers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unified and ext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factors are too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factors are too f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ve-Factor Model of Personality Trai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Research: Gender, Age,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Crae and colleagues theorized personality traits have biological ori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ed study to other cul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cultural and gender similarities with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s that are geographically close have more similarities in pers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ve-Factor Model of Personality Trait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Research: Gender, Age,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personality factors are genetic and universally found in all cul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kson: Identity Cohesion versus Role Con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involves morality enforced by parents, and personal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ing a career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ing “adaptive strength” emerges at each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ia: Exploration and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elements involved in struggle with identity cohesion and role con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explore/consider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choose/commit to a particular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Development Stage Theor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0">
              <a:lnSpc>
                <a:spcPts val="3436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ia: Exploration and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ts val="3436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identity stat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8520" indent="-324000">
              <a:lnSpc>
                <a:spcPts val="3436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achiev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dividual commits to the most comfortable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520" indent="-324000">
              <a:lnSpc>
                <a:spcPts val="3436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ator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ose who are unable to make decisions and commi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520" indent="-324000">
              <a:lnSpc>
                <a:spcPts val="3436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clos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dentity chosen in early adol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520" indent="-324000">
              <a:lnSpc>
                <a:spcPts val="3436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dif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ostponement of identity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Screen shot 2010-10-22 at 10.50.40 AM.jpg"/>
          <p:cNvPicPr/>
          <p:nvPr/>
        </p:nvPicPr>
        <p:blipFill>
          <a:blip r:embed="rId1"/>
          <a:stretch/>
        </p:blipFill>
        <p:spPr>
          <a:xfrm>
            <a:off x="228600" y="915840"/>
            <a:ext cx="869616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23:02:19Z</dcterms:created>
  <dc:creator>James Ramsey</dc:creator>
  <dc:description/>
  <dc:language>en-US</dc:language>
  <cp:lastModifiedBy>Adam Vaughn</cp:lastModifiedBy>
  <dcterms:modified xsi:type="dcterms:W3CDTF">2010-10-27T15:17:09Z</dcterms:modified>
  <cp:revision>16</cp:revision>
  <dc:subject/>
  <dc:title>PowerPoint Presentation</dc:title>
</cp:coreProperties>
</file>