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DB9DB-F359-40E0-A9AE-453B6E9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6F225-17C8-40C7-8200-12D2E8B2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97A9-EA17-4DD3-B4B0-71365E57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543A4-75D4-44A7-8ABD-8137530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4107-4093-40BC-B3F2-D8A034B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B728-419B-4153-83EB-0E9E7002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D729B-8DB3-48A1-91C5-24AB987F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3C140-7233-4C13-9618-A645E0AC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B4B9-3A85-4D0C-8134-611579C7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C588C-9F2D-479C-9C1E-CB4A17B3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578F0-9B15-458B-AFAD-C2554705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B456-60DE-46D5-8763-0FD21EC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5EF83-2EF7-4C63-B0E9-C347AEF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A3E82-E073-4E30-B448-DE875A4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8C9A-998B-45C5-9D97-CE5265C8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AF96-F387-433A-8328-4A14D34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82AA0-D87A-49AB-BA95-1B87C4B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57EE-30EE-45C3-BB73-4EE3109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83988-7FD5-47EC-BEA1-C444DB03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8BD3C-A02E-40D9-9A60-E8812FE9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79A7-0BAF-4BBA-8022-4ACDEC0A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ED3D9-B74A-427F-8981-0CF7BC03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ABC85-7B71-4499-9399-431D71B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88916-AB8A-46A0-A681-EAFBFBCC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3D981-C052-4B32-B024-3A48EAC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8E680-000B-49CC-8635-49C526E5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6FA85-1F7A-4C82-B485-EA1802F8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80622-5D33-4980-843F-05F94A3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65CCC-1CB2-424F-97A8-BDF988E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56E8E-5536-4996-8798-B0FBB8E5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FEA71-3BDB-4DB3-9A39-B865E164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EB97-D217-4218-B444-0EE5E925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C341B-3515-4656-8BC1-CBAB302F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43E-3547-4AB9-B102-8DA6775E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00C-75EE-4CC5-9E9F-61B9F098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15C-F68C-4E98-A80C-B210CCEE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E5E-4A22-4B82-BD03-1A35293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29C-DC8E-47BB-B8E3-95E14C53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50F-645C-4C8A-AF0D-97959391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24A-1CF0-44E9-A1DB-64E8554F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C75-C230-4B2A-B764-DB0E42F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8C0-93DA-406B-B6B3-9F882AB6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C30-5A3E-452C-8DD8-B85F60D0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82F-6E0B-47C7-9372-EE93D674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5D6-51B5-4AFF-A986-EE586B6B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C182-EBAE-4A6C-9536-BBC1AFBB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C23C-F066-467B-BEDF-BDC686B3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489B-1529-4078-ADFA-B8EE2F37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ECF-B977-44EF-B490-10E814DB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6B4B-9248-4146-99A8-CCA62E6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015F-EB1C-4CC4-A31F-DBCF892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E3C5-1432-45EA-8B5B-2F6C5B46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DA87-D942-4590-ACAE-6EF1F83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1B74-00CD-47F0-8FA8-D6BAA72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4043-A975-49C1-A260-0FD5C1A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D84D-F56C-4140-94F0-C1620ACF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793D-232E-42CA-86F7-FC94371F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0440-1930-4790-986B-B25280A6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00D1-79E6-41EA-BDA0-A4746071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96C4-C2BB-4B1C-BBBA-AE9ED50B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3F63-F9BB-49DA-AB33-E48AEA79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0CDC-5461-470A-9FC8-6983414E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7305-6303-4575-99EA-4564D99B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3E27-8CF3-4FAD-863B-EF1F10B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6F37-6D6A-44FD-A815-B5DCB1E7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33D1-B0D4-47BE-89DC-5B0C4BE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B3DC-EDC8-48FE-9C4A-C5CBDECB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B751-1736-4202-9358-D420DA0A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61DF-7458-4F47-9139-91C8CC2D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2605B-9610-43A8-A4AB-8C484111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32E7-9F28-4AAD-BE04-AF590147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FDFF-2E9C-4B21-BD99-DDEE336B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D805-E7D0-4D81-A8A8-03E64F00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B410-2140-4680-AF7C-1CD9ECE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719B-3EC6-433C-BED2-CCC7E61D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1BD9-1090-444D-863C-0B4D09B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E5DA-9BC1-4CE1-9A04-E588CC3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DF62-5751-4FD5-8A5F-1B67BE1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EDA1-3174-45AC-ACD2-E7DC768A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29FB-ACAC-48AB-A8B5-DAF1F181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B153-D74E-4C9B-9F00-625B540A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3958-F307-45E6-A4D9-A5946CB2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DC78-4FAA-4164-A570-521C83BB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8D9E-B73A-4F60-A0D8-EBAE908C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25A0-062F-4E19-A373-D457C25D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ABEC-FAEB-48AB-B28A-005B9AA9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FCDC-BAFC-4CC0-A247-B0D88F51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C2FE-9EA4-4D34-9EDF-0669D42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EB7D-7B6D-4952-861B-09A57828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F634-E466-41C6-918C-7ED4FBF7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8ED6-48F8-405B-9F2C-D844EDA7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60B0-1E97-41F9-87E6-4346F74B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48C4-CFBB-4828-942C-2C00A839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32C7-46E8-49E7-8A1E-0504D8FC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D4A4C-6A9A-4D32-9906-E37A9879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3314C-595D-4164-AA46-5DABB20E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DADF-6B6C-4821-BAA4-6ECD5DEE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7BDB-6E6A-4CD6-A5A1-DFD64CDB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560" y="0"/>
            <a:ext cx="9153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89CCF-C2CC-4072-9A30-16C6702E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04B7A-C03E-4D44-837E-ACBF05A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E982D-F692-44DD-A7CF-BB5BF46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1A11E-8245-48EE-8EFB-73C08A4F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4045320"/>
            <a:ext cx="822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A0A5-A57B-483E-B5F2-FBFFE9FE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4045320"/>
            <a:ext cx="40158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D3B4-1AE8-4711-B909-648E8330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4045320"/>
            <a:ext cx="2649600" cy="22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50870-9C12-415D-9B35-BE2992F6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CDCB0-A385-4F06-88C7-22088405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F0D8-DCAB-4035-949F-1B0A882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0479F-A46A-4B33-A67E-BB039561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1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1BFCB-9122-4925-AA9C-A201F4748F5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C2F78-AA9F-4B05-88C5-7C01EF9300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59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C245B-6FA9-40B7-BC2D-5A27856FB34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8AC7F-BD22-4473-837E-3B0150FA62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hood and</a:t>
            </a:r>
            <a:r>
              <a:rPr b="0" lang="en-US" sz="4800" spc="-1" strike="noStrike">
                <a:solidFill>
                  <a:srgbClr val="2eb5ed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c7cb6d"/>
                </a:solidFill>
                <a:latin typeface="Times New Roman"/>
                <a:ea typeface="Times New Roman"/>
              </a:rPr>
              <a:t>A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572000" y="296712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1668e"/>
                </a:solidFill>
                <a:latin typeface="Arial"/>
                <a:ea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3"/>
          <p:cNvSpPr/>
          <p:nvPr/>
        </p:nvSpPr>
        <p:spPr>
          <a:xfrm>
            <a:off x="-1440" y="16747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0205433510.jpg"/>
          <p:cNvPicPr/>
          <p:nvPr/>
        </p:nvPicPr>
        <p:blipFill>
          <a:blip r:embed="rId3"/>
          <a:stretch/>
        </p:blipFill>
        <p:spPr>
          <a:xfrm>
            <a:off x="698400" y="1984320"/>
            <a:ext cx="2911680" cy="40068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ACBCD-5D0B-455A-9602-FF0988AF638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06BA5-362F-4C2D-B3BA-DD3D2A609F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7D5B8-1335-4B60-B5C5-B640642225E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01848-815C-4726-93DB-36020656A0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60EDC-08FE-4DA7-B3B3-76D463EB409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E4BCE-7760-41B0-BA12-2C8AA267E2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0FB75-1724-4BF2-A590-14E702BED06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09DBB-2F65-48EA-8B14-791A4D8C27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42FC7-A90A-4712-974C-F51687B02D2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F9890-10B9-49CD-B0E0-94FFEB5539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21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0A84E-DB5E-49F4-AAB1-53946DE60DD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EF7F6-5305-480A-8CD9-E6F3017B67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pearson_logo"/>
          <p:cNvPicPr/>
          <p:nvPr/>
        </p:nvPicPr>
        <p:blipFill>
          <a:blip r:embed="rId2"/>
          <a:stretch/>
        </p:blipFill>
        <p:spPr>
          <a:xfrm>
            <a:off x="76320" y="6513480"/>
            <a:ext cx="799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Line 53"/>
          <p:cNvSpPr/>
          <p:nvPr/>
        </p:nvSpPr>
        <p:spPr>
          <a:xfrm>
            <a:off x="3240" y="6450120"/>
            <a:ext cx="9140760" cy="0"/>
          </a:xfrm>
          <a:prstGeom prst="line">
            <a:avLst/>
          </a:prstGeom>
          <a:ln w="28440">
            <a:solidFill>
              <a:srgbClr val="316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952880" y="6462720"/>
            <a:ext cx="4111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1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7"/>
          <p:cNvSpPr/>
          <p:nvPr/>
        </p:nvSpPr>
        <p:spPr>
          <a:xfrm>
            <a:off x="844560" y="6462720"/>
            <a:ext cx="448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ulthood and 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rion G. Ma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3"/>
          <p:cNvSpPr/>
          <p:nvPr/>
        </p:nvSpPr>
        <p:spPr>
          <a:xfrm>
            <a:off x="-1440" y="1393920"/>
            <a:ext cx="9151920" cy="0"/>
          </a:xfrm>
          <a:prstGeom prst="line">
            <a:avLst/>
          </a:prstGeom>
          <a:ln w="28440">
            <a:solidFill>
              <a:srgbClr val="c7c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31668e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799"/>
              </a:spcBef>
              <a:buClr>
                <a:srgbClr val="31668e"/>
              </a:buClr>
              <a:buFont typeface="Lucida Gran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8640" indent="-339840">
              <a:spcBef>
                <a:spcPts val="799"/>
              </a:spcBef>
              <a:buClr>
                <a:srgbClr val="31668e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8640" indent="-339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95DE5-6F07-40A2-A7DD-E3A4A2A3E84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A6EBC-E125-4422-8DE7-C7BB7B8621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946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1668e"/>
                </a:solidFill>
                <a:latin typeface="Arial"/>
              </a:rPr>
              <a:t>Developmental Psychology Applied to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570888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31668e"/>
                </a:solidFill>
                <a:latin typeface="Arial"/>
                <a:ea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ultidisciplinary 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faceted Endeav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combined approaches of various disciplin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ndividual characteristics that influenc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ocietal factors that influenc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hrop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ultural heritage and background that influenc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ultidisciplinary 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faceted Endeav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anie Domenech Rodriguez et al., 2009 studied parenting styles found by Diane Baumari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o parenting styles differed from those found by Baumarind, as those based on U.S. mainstream in the 6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ultidisciplinary 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faceted Endeav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pect of study: theoretical, methodological, empirical, and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when and how data is collected and interp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evelopment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al psychology focused on child development pre-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psychological study of adults emerged post-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ontological Society of America founded in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government established National Institute of Aging in 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evelopment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Interagency Forum on Aging-Related Statistics formed in 19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researchers interested in how the nervous system and aging are 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Development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logical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search emphasizes 4 areas of study of adult development and ag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tudying stable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at occurs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unctional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ositive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 and Realistic Approa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 Psych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pproach emphasizes individual’s strengths, resilient 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s productive coping, personal growth, life-satisfaction,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al a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djusting and coping well with lif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s physical and psychological adjus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Dimensions of 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95000"/>
              </a:lnSpc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al psychologists segment ag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adulthood: 18 or 20 years to 40-4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dulthood: 40-45 years to 60-6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dulthood: 60-65 to end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dulthood further seg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3720" indent="-337320">
              <a:lnSpc>
                <a:spcPct val="95000"/>
              </a:lnSpc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-old: 60-65 to 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3720" indent="-337320">
              <a:lnSpc>
                <a:spcPct val="95000"/>
              </a:lnSpc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-old: 75 to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-old: 85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Dimensions of 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scholars divide older ages differen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hood-pre-retirement: second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retirement-oldest old: third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life: four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nctional 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nological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e in weeks or months – more useful when considering chil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tive age-graded influ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ypical events/influences strongly related to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useful concept of age in adulthood; comprises of physical and cognitive 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of adult development and aging – a relatively new and rapidly-growing area in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process better understood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dvances i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in computing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number of older ad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nctional 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ical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individual’s health when compared to others of the same chronological age (physical well-be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ark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ychological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dividual’s ability to cope and adjust to changes in environment when compared to others of same chronological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nctional 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paring social roles and expectations with those of the same chronological 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-Related Influ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tive history-graded influ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periences of a culture/society at a point in history, e.g., wars, disasters, technological 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group of people who have grown up together and have similar normative history-grade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-Related Influ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normative influ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unexpected, personal experiences, or chance occurrences that alter our lives (e.g., untimely death of a loved one; losing/winning a large sum of mon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atheories as Philosophies of Develop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tatheories useful in organizing knowledge and designing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views or meta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as philosophies of huma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chanistic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/source of change is 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s aim at studying interaction and influence of various interacting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studied are observable and measurable, involve quantitativ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ccurs in continuous, smooth increases/decreases, not jagged/step-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chanistic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is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consider whole person or whol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smic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the biological and genetic influences o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through maturation and environmental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consists of spurts of growth/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emphasizes discontinuous, qualitativ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smic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ge is more complex and sophisticated than the previous s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s and reworking on previous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smic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 not always linear, and in numer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outside of ‘normal’, does not imply behavior is ab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Study Adult Developm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Ag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to learn more about topic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quality of life; age successfully/opti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ual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philosophy in developmental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s interaction of internal and extern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is continuous and dis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ual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s influence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ual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tes et al., found 7 core assumptions influencing current lifespan developmental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 and lo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eac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ua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v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uences are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ual Metathe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tes et al., found 7 core assumptions influencing current lifespan developmental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arenR" startAt="6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kills and abilities are mall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31668e"/>
              </a:buClr>
              <a:buFont typeface="Arial"/>
              <a:buAutoNum type="arabicParenR" startAt="6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discipli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ach to lifesp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oretical Approaches to Adult Development and 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ical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d by neuropsychology (biopsychology or behavioral neuro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 biological foundations of thoughts an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ble 1.2   Examples of Biological Theories of A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tab01_02.jpg"/>
          <p:cNvPicPr/>
          <p:nvPr/>
        </p:nvPicPr>
        <p:blipFill>
          <a:blip r:embed="rId1"/>
          <a:stretch/>
        </p:blipFill>
        <p:spPr>
          <a:xfrm>
            <a:off x="228600" y="1893960"/>
            <a:ext cx="86868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logic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ed theories of biological a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ging process controlled by biological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d longevity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ficits associated with aging caused by genes turning on and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logic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ocrine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ormones control biological clock that influences aging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nological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mmune system programmed to decline over time which increases vulnerability to infection and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logic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The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cognize the interaction between genetically programmed aging and environment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r and tear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ells and tissues wear out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e of living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rganisms die when finite resources to sustain them get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logic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The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cognize the interaction between genetically programmed aging and environment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linking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ndesirable changes and reaction occur when glucose molecules attach to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radical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amage caused by “oxygen free radic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Aging Pop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growing population of older adults has societal and person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logic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The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cognize the interaction between genetically programmed aging and environment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atic DNA damage the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ells deteriorate and malfunction due to genetic mutations with time and 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nectionist Approa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the role of cognitive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technologies to observe neuronal activity and brain changes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oftware for mathematical modeling of cognitiv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 software for simulating human lear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nectionist Approa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development involves making associations between basic items or pieces of information, “units” to form a network of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units results in a gradual process requiring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 networks form over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nectionist Approa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628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helpful in understanding peak performance and decline in various aspects of brain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itating human cognition with software allows researchers to make predictions and tes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in designing thera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in computer-simulating brain functions without causing harm to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ocultur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ocial, cultural, societal forces in shaping huma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fenbrenner developed bioecological mod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utcome of interactions between genetics an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layer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lay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direct impact on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lay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direct impact on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ocultur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fenbrenner developed bioecological mod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layer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ersonal relations and immediate settings of a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o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oups of microsystems; one relationship affects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o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stant infl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ocultural The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fenbrenner developed bioecological mode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layer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written cultural, societal roles, n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no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anges in the personal, interpersonal, social, cultural influenc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ection, Optimization, and Compensation Theory (SOC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Baltes et al.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– a model of ada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ection, Optimization, and Compensation Theory (SOC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ways in which individuals manage gains and losses in each phas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-based sele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accepting facts about old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44520">
              <a:spcBef>
                <a:spcPts val="601"/>
              </a:spcBef>
              <a:buClr>
                <a:srgbClr val="31668e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ive se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termining one’s needs,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: proactively optimizing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ection, Optimization, and Compensation Theory (SOC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ways in which individuals manage gains and losses in each phas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nsation: for losses that com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and compensation work together to support selected needs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0" y="0"/>
            <a:ext cx="914400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696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1.1   Predictions Based on U.S. Census Bureau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Interagency Forum on Aging-Related Statistics. (2006, May). Older Americans Update 2006: Key Indicator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Being. Federal Interagency Forum on Aging-Related Statistics. Washington, DC: U.S. Government Printing Off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4" name="Picture 5" descr="fig01_01.jpg"/>
          <p:cNvPicPr/>
          <p:nvPr/>
        </p:nvPicPr>
        <p:blipFill>
          <a:blip r:embed="rId1"/>
          <a:stretch/>
        </p:blipFill>
        <p:spPr>
          <a:xfrm>
            <a:off x="555480" y="857160"/>
            <a:ext cx="8070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fic Study of Adult and Ag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ing high quality research 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appropriate statist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 and rigorous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ly sound 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ically Sound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safeguards required for research involving humans o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Review Board (IRB) protect research, participants, institutions ensuring compliance with federal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mont Report, 1979, provides ethical guidelines in biomedical and behavior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ically Sound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of Federal Regulations identifies groups of people frequently involved in studies of adul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involving animals requires approval from Institutional Animal Care and Use Committee (IACU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tails of study shared with participant(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ically Sound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ithholding or giving fals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rief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llows deception; researchers to plan debrief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in psychology to comply with APA ethics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ically Sound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 ethic code addresses testing, assessment, therapy, education and training,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ciphering Psychological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 as reported by media could be inaccurate or misinterp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s published in scientific journals more trustworthy – go through rigorous approv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ciphering Psychological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view and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, Methods,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s an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Aging Pop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 poses challenges of economic stability and health car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key areas in the study of adulthood and ag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risks an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3768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llenging Iss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5000"/>
              </a:lnSpc>
              <a:spcBef>
                <a:spcPts val="799"/>
              </a:spcBef>
              <a:buClr>
                <a:srgbClr val="31668e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age distribution will effect many industries – health care, insurance, housing,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5000"/>
              </a:lnSpc>
              <a:spcBef>
                <a:spcPts val="799"/>
              </a:spcBef>
              <a:buClr>
                <a:srgbClr val="31668e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– some topics are emphasized, while others are overlooked/neg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2760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mphasis on young and middle-aged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2760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adults have received more emph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27600">
              <a:lnSpc>
                <a:spcPct val="95000"/>
              </a:lnSpc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approach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llenging Iss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1668e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ing commonalities and diversities between younger and older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60" y="0"/>
            <a:ext cx="9153720" cy="1371600"/>
          </a:xfrm>
          <a:prstGeom prst="rect">
            <a:avLst/>
          </a:prstGeom>
          <a:solidFill>
            <a:srgbClr val="1855a5"/>
          </a:solidFill>
          <a:ln w="9360">
            <a:solidFill>
              <a:srgbClr val="c1c8c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sychological Approach to Adult Development and Ag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spcBef>
                <a:spcPts val="799"/>
              </a:spcBef>
              <a:buClr>
                <a:srgbClr val="31668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approaches to study adult development and ag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ych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cientific study of mental and behavior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al psych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tudy of ways individuals change as they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280" indent="-334440">
              <a:spcBef>
                <a:spcPts val="700"/>
              </a:spcBef>
              <a:buClr>
                <a:srgbClr val="31668e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ult development and a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tudy of normal or typical ways mental and behavioral processes change with age beyond adol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2:13:31Z</dcterms:created>
  <dc:creator>Thomas Dunn</dc:creator>
  <dc:description/>
  <dc:language>en-US</dc:language>
  <cp:lastModifiedBy>Adam Vaughn</cp:lastModifiedBy>
  <dcterms:modified xsi:type="dcterms:W3CDTF">2010-10-27T15:54:10Z</dcterms:modified>
  <cp:revision>2</cp:revision>
  <dc:subject/>
  <dc:title>Slide 1</dc:title>
</cp:coreProperties>
</file>