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Education,Careers,and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long and Life-wide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 related to work-related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wide learning related to non-employment topics/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long 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 up-to-date profes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 active profes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felong and Life-wide Learn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wide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outside of pai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ed by colleges, health clinics, libraries, school boards, bookstores, religious communities, coffee 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hobbies, leisure, crafts, health issues, parenting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special interest to those who seek cognitive st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9360" y="24512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Jobs and Care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ome, Socioeconomic Status, and Successful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physical and mental health linked to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lated to women’s health and better cognitive functioning in lat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oeconomic status (S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ome, Socioeconomic Status, and Successful Ag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 linked to successfu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S rela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ier self-esteem in young and middle-aged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after ret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hys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being, self-esteem, cognitive functioning, health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Nature of 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theory of career development by Super, late 1950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training; survey caree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employed, build a reputation,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ge; maintain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Nature of Work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eng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for retirement; end of meaningfu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experience different in 21st.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Nature of Work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will change jobs every 4½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nine jobs between ages 18-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ing Nature of Work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oyal to emplo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responsibility of career/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person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recycling/rene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ada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/Employment F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multi-skilled is best strategy for success in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/cognitive abilities good predictors of job success and earning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high levels of job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hanging nature of work, good for person/employment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road range of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are transf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on Across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is taking many different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and variety in tea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ings/wee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ed via T.V., podcasts,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-based interactiv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,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learning opportunities to meet needs of diverse population seek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/Employment Fi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job-personality fit, John Holl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different personality themes for various care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/Employment Fi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/employment fit 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person with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atisfaction,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d input on ke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 of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professi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work environments and perso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/Employment Fi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ctive work commi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igh job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ance work commi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me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-Related Stre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work-related str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ge discri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njust practice when individuals not given comparable wages for comparabl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-job wage discrim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nequal pay for employees in the same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-Related Stress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ble wo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qual pay for those in different jobs, but under similar factors 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and physical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-Related Stress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 gap in pay: women earn less than men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s requiring advance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ive discri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t point of h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ative discri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ss value given to jobs held by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-Related Stress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ual harass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“unwelcome sexual advances, requests for sexual favors, and other verbal or physical conduct of a sexual na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aints filed by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-Related Stress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conflict: balancing work and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experience work-interfering-with-family also experience family-interfering-with-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ing selection, optimization, compensation (SOC) model may reduce work/family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Work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natur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de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 designed to prevent discrimination against hiring, forced retirement based o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Work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s may create negative circumstances for older employees,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hem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 so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ucation Across Adulthood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offer programs to th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first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change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cademic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rvices, lif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n-Englis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Work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employees perceiv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pride in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good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Work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es and myths about older workers (fals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unable to do thei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igh rate of absentee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igh rate of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ess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ess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chan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learn new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Worker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decline in job performance with ag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nteer Wok and Community Involv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8800" indent="-29880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ing can be formal or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may be helping neighbors; it incr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93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93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belonging/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informal volunte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93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, enjoy, improve neighborhood, trust-building, socially b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93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x000c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nteer Wok and Community Invol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organization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, state-wide, national,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reen shot 2010-10-22 at 11.21.16 AM.jpg"/>
          <p:cNvPicPr/>
          <p:nvPr/>
        </p:nvPicPr>
        <p:blipFill>
          <a:blip r:embed="rId1"/>
          <a:stretch/>
        </p:blipFill>
        <p:spPr>
          <a:xfrm>
            <a:off x="250920" y="1339920"/>
            <a:ext cx="8664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7.2 (continued)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ights and Responsibilities of Volunteers and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Screen shot 2010-10-22 at 11.21.37 AM.jpg"/>
          <p:cNvPicPr/>
          <p:nvPr/>
        </p:nvPicPr>
        <p:blipFill>
          <a:blip r:embed="rId1"/>
          <a:stretch/>
        </p:blipFill>
        <p:spPr>
          <a:xfrm>
            <a:off x="241200" y="1846440"/>
            <a:ext cx="86835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nteer Wok and Community Invol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igher educationa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goo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previous voluntee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for altruistic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to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nteer Wok and Community Invol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ing benefits to older ad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good abou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reater life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physic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s against isolation,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identity an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nteer Wok and Community Involv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dge between full-time employment and complete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ditional College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high school dipl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college right after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 on parents, grants, student loans f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 employed/employed in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rsed in colleg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on/near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rried/not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9360" y="24512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Retir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ies in Characterizing Reti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cientists suggest years after retirement are distinct and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racterize reti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ies in Characterizing Retire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verse and diff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life (work)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ies in Characterizing Retire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verse and diff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due to cultural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irement as a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 involves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tirement starts at about age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volved in pre-retire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leads to better post-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irement as a Proc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me of increased compan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terests and hob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in leis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irement as a Proc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ith happy retirement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n activities/hobb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arital/sexu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opt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irement as a Proc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tacles to reti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profes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career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camarad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tirement as a Proc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retir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employ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ansition from full-time work to permanent withdrawal from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a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ing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9360" y="24890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Economic Issues and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ditional College Studen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ors: social, academic, 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adjustment to college leads to academic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volution of Retirement Progr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onthly benefit (Social Security Administration, 200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ired worker: $1,079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dow/widower: $1,041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ired couple: $1,761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d contribution retirement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loyers contribute to employee’s pensio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volution of Retirement Program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1(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ployees contribute voluntarily to retirement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 Retirement Accou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R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lity of Financing Retir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tirement financial well-being related to accumulated w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n 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lity of Financing Retire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mericans save little/nothing for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ew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mployer-based pension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o for wi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rd Hispanics and Africa-Americans depend on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aging Health Care Co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financed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approximately 97% of adults 65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atient care, office visits, skilled nursing facilities, home healt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aging Health Care Cos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-controll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income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-sponsored retiree health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one-third of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aging Health Care Cos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companies: Medi-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of pocket co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nclude therapies, medications, off-site 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Screen shot 2010-10-22 at 11.24.37 AM.jpg"/>
          <p:cNvPicPr/>
          <p:nvPr/>
        </p:nvPicPr>
        <p:blipFill>
          <a:blip r:embed="rId1"/>
          <a:stretch/>
        </p:blipFill>
        <p:spPr>
          <a:xfrm>
            <a:off x="241200" y="1806480"/>
            <a:ext cx="86835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der Adults as a Political For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creen shot 2010-10-22 at 11.19.15 AM.jpg"/>
          <p:cNvPicPr/>
          <p:nvPr/>
        </p:nvPicPr>
        <p:blipFill>
          <a:blip r:embed="rId1"/>
          <a:stretch/>
        </p:blipFill>
        <p:spPr>
          <a:xfrm>
            <a:off x="241200" y="942840"/>
            <a:ext cx="8683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ditional students;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college students – nontra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nroll in 2-year colleges,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omen enroll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Studen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and needs of nontraditional students dif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be recognized for lif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apply what they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classroom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more with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ult Studen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lifesty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, single parents, divorced, inadequate hou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liable vehic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igh support of family, co-workers, are highly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06:19Z</dcterms:created>
  <dc:creator>James Ramsey</dc:creator>
  <dc:description/>
  <dc:language>en-US</dc:language>
  <cp:lastModifiedBy>Adam Vaughn</cp:lastModifiedBy>
  <dcterms:modified xsi:type="dcterms:W3CDTF">2010-10-27T17:45:51Z</dcterms:modified>
  <cp:revision>21</cp:revision>
  <dc:subject/>
  <dc:title>PowerPoint Presentation</dc:title>
</cp:coreProperties>
</file>